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A7F-7C37-498D-B84D-B1270F50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635E-57A9-4A3F-B0B5-88CD8F0B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4FF-BEF2-488B-9423-770A8FAE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E3F-0B35-41B0-9BBF-DCACAB04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ECD4-BFB0-4D74-99DB-A2975335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419E-75F2-4130-821F-A2162D03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E8B4-A99C-4AC2-8E95-3DF5EA07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5D9E-1F1E-42B9-BC81-87B68F55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31EE-DCA3-4C11-9E52-5A1AC74E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6B30-C24D-483B-A0A3-8071DF24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D939-6AE9-4433-B4D6-3F3C3A3A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231-1657-4ACD-8DF2-2B566E6F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02C3-25F7-48C5-BBF3-E72FA5A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A194-97BD-4D15-95B2-5D788FF2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1499-C23D-4711-8472-3951DA07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C70F-ED28-4477-AEDD-149D7761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1C39-E6F0-4B4B-BEDA-63CAA7E4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7DD-275B-479A-A556-85554118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1B5-6ACA-4E33-A0FD-3D79435D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D67E-679D-4761-AB94-8495FDCD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D9B-CE4A-4AE6-A817-D105697B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DE8-0968-47C7-80A1-B3C5266F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1B9-1720-46F6-A70E-714726EC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F9D-E5A9-449B-B8C6-2CD8FBE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6659-FCDB-41A5-9194-71A7F4AF49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6660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3921-4FDE-4A11-8FF1-180EF039304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720" y="1196640"/>
            <a:ext cx="82807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Rounded MT Bold"/>
              </a:rPr>
              <a:t>消防设备电源监控系统及应用</a:t>
            </a:r>
            <a:endParaRPr b="1" lang="en-US" sz="4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292720" y="2781000"/>
            <a:ext cx="3132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陆晓君     </a:t>
            </a:r>
            <a:r>
              <a:rPr b="0" lang="zh-CN" sz="2800" spc="-1" strike="noStrike">
                <a:solidFill>
                  <a:srgbClr val="ffffff"/>
                </a:solidFill>
                <a:latin typeface="Arial Rounded MT Bold"/>
              </a:rPr>
              <a:t>2014.2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70036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050920" y="1628640"/>
            <a:ext cx="5562720" cy="1305000"/>
            <a:chOff x="2050920" y="1628640"/>
            <a:chExt cx="5562720" cy="1305000"/>
          </a:xfrm>
        </p:grpSpPr>
        <p:sp>
          <p:nvSpPr>
            <p:cNvPr id="135" name=""/>
            <p:cNvSpPr/>
            <p:nvPr/>
          </p:nvSpPr>
          <p:spPr>
            <a:xfrm>
              <a:off x="2050920" y="1628640"/>
              <a:ext cx="5562720" cy="1305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73320" y="1748880"/>
              <a:ext cx="107136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2239920" y="1817280"/>
              <a:ext cx="534960" cy="534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6680" y="2042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0840" y="1806120"/>
              <a:ext cx="4089240" cy="8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320360" y="19890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产品介绍及对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68360" y="3213000"/>
            <a:ext cx="36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41"/>
                </a:solidFill>
                <a:latin typeface="Arial"/>
                <a:ea typeface="华文琥珀"/>
              </a:rPr>
              <a:t>2.1 </a:t>
            </a: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产品介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41"/>
                </a:solidFill>
                <a:latin typeface="Arial"/>
                <a:ea typeface="华文琥珀"/>
              </a:rPr>
              <a:t>2.2 </a:t>
            </a: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同行厂家对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2360" y="44280"/>
            <a:ext cx="3456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2.1 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介绍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"/>
          <p:cNvSpPr/>
          <p:nvPr/>
        </p:nvSpPr>
        <p:spPr>
          <a:xfrm>
            <a:off x="252360" y="909720"/>
            <a:ext cx="86425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1  </a:t>
            </a:r>
            <a:r>
              <a:rPr b="0" lang="zh-CN" sz="28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消防设备电源监控系统</a:t>
            </a:r>
            <a:br>
              <a:rPr sz="2800"/>
            </a:br>
            <a:r>
              <a:rPr b="0" lang="zh-CN" sz="28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用于监控消防设备电源工作状态，在电源发生过压、欠压、过流、缺相、中断供电等故障时能发出报警信号的监控系统，由消防设备电源状态监控器、电压传感器、电流传感器、电压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电流传感器等部分或全部设备组成。</a:t>
            </a:r>
            <a:br>
              <a:rPr sz="2800"/>
            </a:br>
            <a:r>
              <a:rPr b="1" lang="zh-CN" sz="28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2  </a:t>
            </a:r>
            <a:r>
              <a:rPr b="1" lang="zh-CN" sz="28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消防设备电源监控器</a:t>
            </a:r>
            <a:br>
              <a:rPr sz="2800"/>
            </a:br>
            <a:r>
              <a:rPr b="1" lang="zh-CN" sz="28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能接收来自消防设备电源监控传感器（监控模块）的报警信号，发出声光报警信号和控制信号，指示报警部位，记录并保存报警信息的装置。</a:t>
            </a:r>
            <a:br>
              <a:rPr sz="2000"/>
            </a:br>
            <a:r>
              <a:rPr b="1" lang="zh-CN" sz="28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3  </a:t>
            </a:r>
            <a:r>
              <a:rPr b="1" lang="zh-CN" sz="28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消防设备电源传感器（监控模块）</a:t>
            </a:r>
            <a:br>
              <a:rPr sz="2800"/>
            </a:br>
            <a:r>
              <a:rPr b="1" lang="zh-CN" sz="2800" spc="-1" strike="noStrike">
                <a:solidFill>
                  <a:srgbClr val="009999"/>
                </a:solidFill>
                <a:latin typeface="Arial Rounded MT Bold"/>
                <a:ea typeface="宋体"/>
              </a:rPr>
              <a:t>    </a:t>
            </a:r>
            <a:r>
              <a:rPr b="0" lang="zh-CN" sz="2800" spc="-1" strike="noStrike">
                <a:solidFill>
                  <a:srgbClr val="333333"/>
                </a:solidFill>
                <a:latin typeface="Arial Rounded MT Bold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主要是监测消防设备电源的电压信号、电流信号以及开关状态等参数变化的传感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2360" y="44280"/>
            <a:ext cx="3456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2.1 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介绍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矩形 18"/>
          <p:cNvSpPr/>
          <p:nvPr/>
        </p:nvSpPr>
        <p:spPr>
          <a:xfrm>
            <a:off x="468360" y="1052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微软雅黑"/>
                <a:ea typeface="微软雅黑"/>
              </a:rPr>
              <a:t>消防设备电源状态监控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843280" y="2060640"/>
          <a:ext cx="5905440" cy="3448080"/>
        </p:xfrm>
        <a:graphic>
          <a:graphicData uri="http://schemas.openxmlformats.org/drawingml/2006/table">
            <a:tbl>
              <a:tblPr/>
              <a:tblGrid>
                <a:gridCol w="461880"/>
                <a:gridCol w="1727280"/>
                <a:gridCol w="3716280"/>
              </a:tblGrid>
              <a:tr h="468360">
                <a:tc gridSpan="2"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型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FPM-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/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3200">
                <a:tc gridSpan="2"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监控容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2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 gridSpan="2"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形尺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00(H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×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0(W)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×2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(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5000">
                <a:tc rowSpan="4"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主要组成部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显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1"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单色液晶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输入输出模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远程智能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I/O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模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声光报警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喇叭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LED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指示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备用电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V 24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铅酸蓄电池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680" marR="5868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47" name="" descr=""/>
          <p:cNvPicPr/>
          <p:nvPr/>
        </p:nvPicPr>
        <p:blipFill>
          <a:blip r:embed="rId2"/>
          <a:srcRect l="2008" t="2975" r="5386" b="3359"/>
          <a:stretch/>
        </p:blipFill>
        <p:spPr>
          <a:xfrm>
            <a:off x="423720" y="2781360"/>
            <a:ext cx="13906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2360" y="44280"/>
            <a:ext cx="34560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2.1 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介绍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424720" cy="4997520"/>
          </a:xfrm>
          <a:prstGeom prst="rect">
            <a:avLst/>
          </a:prstGeom>
          <a:ln w="0">
            <a:noFill/>
          </a:ln>
        </p:spPr>
      </p:pic>
      <p:sp>
        <p:nvSpPr>
          <p:cNvPr id="150" name="矩形 18"/>
          <p:cNvSpPr/>
          <p:nvPr/>
        </p:nvSpPr>
        <p:spPr>
          <a:xfrm>
            <a:off x="468360" y="1052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99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336699"/>
                </a:solidFill>
                <a:latin typeface="微软雅黑"/>
                <a:ea typeface="微软雅黑"/>
              </a:rPr>
              <a:t>传感器部分（电压</a:t>
            </a:r>
            <a:r>
              <a:rPr b="0" lang="zh-CN" sz="2400" spc="-1" strike="noStrike">
                <a:solidFill>
                  <a:srgbClr val="336699"/>
                </a:solidFill>
                <a:latin typeface="微软雅黑"/>
                <a:ea typeface="微软雅黑"/>
              </a:rPr>
              <a:t>\</a:t>
            </a:r>
            <a:r>
              <a:rPr b="0" lang="zh-CN" sz="2400" spc="-1" strike="noStrike">
                <a:solidFill>
                  <a:srgbClr val="336699"/>
                </a:solidFill>
                <a:latin typeface="微软雅黑"/>
                <a:ea typeface="微软雅黑"/>
              </a:rPr>
              <a:t>电流监控模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396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2.2 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同行厂家对比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5440" y="1990800"/>
          <a:ext cx="5616360" cy="4103640"/>
        </p:xfrm>
        <a:graphic>
          <a:graphicData uri="http://schemas.openxmlformats.org/drawingml/2006/table">
            <a:tbl>
              <a:tblPr/>
              <a:tblGrid>
                <a:gridCol w="3060360"/>
                <a:gridCol w="2556000"/>
              </a:tblGrid>
              <a:tr h="59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厂家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壁挂式监控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安科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AFPM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华新鼎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珠海派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中消恒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H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新疆双新电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08000" y="90972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 Rounded MT Bold"/>
                <a:ea typeface="宋体"/>
              </a:rPr>
              <a:t>1. </a:t>
            </a:r>
            <a:r>
              <a:rPr b="0" lang="zh-CN" sz="2800" spc="-1" strike="noStrike">
                <a:solidFill>
                  <a:srgbClr val="111111"/>
                </a:solidFill>
                <a:latin typeface="Arial Rounded MT Bold"/>
                <a:ea typeface="宋体"/>
              </a:rPr>
              <a:t>消防设备电源监控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000" y="44280"/>
            <a:ext cx="3960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2.2 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同行厂家对比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765000"/>
            <a:ext cx="5040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 Rounded MT Bold"/>
                <a:ea typeface="宋体"/>
              </a:rPr>
              <a:t>2. </a:t>
            </a:r>
            <a:r>
              <a:rPr b="0" lang="zh-CN" sz="2800" spc="-1" strike="noStrike">
                <a:solidFill>
                  <a:srgbClr val="111111"/>
                </a:solidFill>
                <a:latin typeface="Arial Rounded MT Bold"/>
                <a:ea typeface="宋体"/>
              </a:rPr>
              <a:t>消防设备电源监控传感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6360" y="1413000"/>
          <a:ext cx="8964720" cy="5260320"/>
        </p:xfrm>
        <a:graphic>
          <a:graphicData uri="http://schemas.openxmlformats.org/drawingml/2006/table">
            <a:tbl>
              <a:tblPr/>
              <a:tblGrid>
                <a:gridCol w="2238480"/>
                <a:gridCol w="6726240"/>
              </a:tblGrid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厂家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产品系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安科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AFPM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AFPM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AFPM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华新鼎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1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HX5913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HX59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（直流）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2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2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HX5923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HX5924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2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（交流单相）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3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3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3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（三相三线）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4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4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4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（三相四线）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5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HX595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（开入开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珠海派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1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1A-I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PMAC511A-I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1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1A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1A2-I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PMAC511A2-I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（单相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3A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3A-I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PMAC513A-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3A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PMAC513A2-I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黑体"/>
                        </a:rPr>
                        <a:t>PMAC513A2-IR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（三相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中消恒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A-D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A-D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A-D2F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A-D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A-S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A-S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A-S2F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A-W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（电压传感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I-D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I-S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I-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ZXVI-W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（电压电流传感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 Rounded MT Bold"/>
                          <a:ea typeface="楷体_GB2312"/>
                        </a:rPr>
                        <a:t>新疆双新电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DC/U(A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AC/1P/U(A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AC/3P/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AC/3P/U(A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AC/4P/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AC/4P/U(A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2AC/1P/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2AC/3P/U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、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 Rounded MT Bold"/>
                          <a:ea typeface="黑体"/>
                        </a:rPr>
                        <a:t>SXDQ-2AC/4P/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2000" y="117360"/>
            <a:ext cx="2592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619280" y="1413000"/>
            <a:ext cx="5562720" cy="1307520"/>
            <a:chOff x="1619280" y="1413000"/>
            <a:chExt cx="5562720" cy="1307520"/>
          </a:xfrm>
        </p:grpSpPr>
        <p:sp>
          <p:nvSpPr>
            <p:cNvPr id="159" name=""/>
            <p:cNvSpPr/>
            <p:nvPr/>
          </p:nvSpPr>
          <p:spPr>
            <a:xfrm>
              <a:off x="1619280" y="1413000"/>
              <a:ext cx="5562720" cy="130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41680" y="1533600"/>
              <a:ext cx="1071360" cy="1069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1808280" y="1602000"/>
              <a:ext cx="53496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75040" y="18262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59200" y="1590840"/>
              <a:ext cx="4089240" cy="82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746520" y="17622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产品选型及方案设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81000"/>
            <a:ext cx="741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某医院项目中消防设备的电源监控系统的设计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1817640"/>
            <a:ext cx="741672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地下室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门急诊病房楼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食堂宿舍楼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4.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办公体检楼</a:t>
            </a:r>
            <a:br>
              <a:rPr sz="2400"/>
            </a:br>
            <a:r>
              <a:rPr b="1" lang="en-US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5.</a:t>
            </a: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传染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98100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送风机配电系统图（消防设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76626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98100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送风机配电系统图（非消防设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78008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000" y="117360"/>
            <a:ext cx="2592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92360" y="1628640"/>
            <a:ext cx="5562360" cy="1306440"/>
            <a:chOff x="1692360" y="1628640"/>
            <a:chExt cx="5562360" cy="1306440"/>
          </a:xfrm>
        </p:grpSpPr>
        <p:sp>
          <p:nvSpPr>
            <p:cNvPr id="86" name=""/>
            <p:cNvSpPr/>
            <p:nvPr/>
          </p:nvSpPr>
          <p:spPr>
            <a:xfrm>
              <a:off x="1692360" y="16286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14400" y="17492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1881000" y="18176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47760" y="20415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31920" y="1830240"/>
              <a:ext cx="40888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692360" y="3071880"/>
            <a:ext cx="5562360" cy="1306440"/>
            <a:chOff x="1692360" y="3071880"/>
            <a:chExt cx="5562360" cy="1306440"/>
          </a:xfrm>
        </p:grpSpPr>
        <p:sp>
          <p:nvSpPr>
            <p:cNvPr id="92" name=""/>
            <p:cNvSpPr/>
            <p:nvPr/>
          </p:nvSpPr>
          <p:spPr>
            <a:xfrm>
              <a:off x="1692360" y="30718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14400" y="31924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1881000" y="326088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47760" y="3486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31920" y="3249720"/>
              <a:ext cx="408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692360" y="4532400"/>
            <a:ext cx="5562360" cy="1306440"/>
            <a:chOff x="1692360" y="4532400"/>
            <a:chExt cx="5562360" cy="1306440"/>
          </a:xfrm>
        </p:grpSpPr>
        <p:sp>
          <p:nvSpPr>
            <p:cNvPr id="98" name=""/>
            <p:cNvSpPr/>
            <p:nvPr/>
          </p:nvSpPr>
          <p:spPr>
            <a:xfrm>
              <a:off x="1692360" y="453240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14400" y="465300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1881000" y="472140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7760" y="49453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31920" y="4710240"/>
              <a:ext cx="408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438360" y="20606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行业背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66960" y="342900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产品介绍及对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19600" y="4879800"/>
            <a:ext cx="223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产品选型及问题答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98100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应急照明配电系统图（消防设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822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98100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照明配电系统图（非消防设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835344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98100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消防泵配电系统图（消防设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9000" y="1700280"/>
            <a:ext cx="89550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98100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生活泵配电系统图（非消防设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77756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98100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消防电梯配电系统图（消防设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5914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981000"/>
            <a:ext cx="741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普通电梯配电系统图（非消防设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67564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836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消防配电箱进线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11280" y="1305000"/>
            <a:ext cx="786744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488360" cy="5232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4000" y="836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消防配电箱出线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453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3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产品选型及方案设计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836640"/>
            <a:ext cx="741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1111"/>
                </a:solidFill>
                <a:latin typeface="Times New Roman"/>
                <a:ea typeface="宋体"/>
              </a:rPr>
              <a:t>系统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1280" y="1343160"/>
            <a:ext cx="80485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987640" y="270972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76360" y="3502080"/>
            <a:ext cx="3670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41"/>
                </a:solidFill>
                <a:latin typeface="Arial"/>
                <a:ea typeface="华文琥珀"/>
              </a:rPr>
              <a:t>1.1 </a:t>
            </a: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背景介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641"/>
                </a:solidFill>
                <a:latin typeface="Arial"/>
                <a:ea typeface="华文琥珀"/>
              </a:rPr>
              <a:t>1.2 </a:t>
            </a: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国标及地标介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32000" y="1554120"/>
            <a:ext cx="5562360" cy="1306440"/>
            <a:chOff x="1332000" y="1554120"/>
            <a:chExt cx="5562360" cy="1306440"/>
          </a:xfrm>
        </p:grpSpPr>
        <p:sp>
          <p:nvSpPr>
            <p:cNvPr id="108" name=""/>
            <p:cNvSpPr/>
            <p:nvPr/>
          </p:nvSpPr>
          <p:spPr>
            <a:xfrm>
              <a:off x="1332000" y="15541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54040" y="16747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1520640" y="17431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87400" y="1967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671560" y="1755720"/>
              <a:ext cx="40888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78000" y="19861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9641"/>
                </a:solidFill>
                <a:latin typeface="Arial"/>
                <a:ea typeface="华文琥珀"/>
              </a:rPr>
              <a:t>行业背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2000" y="117360"/>
            <a:ext cx="2592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Rounded MT Bold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2360" y="44280"/>
            <a:ext cx="250848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1.1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背景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"/>
          <p:cNvSpPr/>
          <p:nvPr/>
        </p:nvSpPr>
        <p:spPr>
          <a:xfrm>
            <a:off x="396720" y="1125360"/>
            <a:ext cx="8209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78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c78"/>
                </a:solidFill>
                <a:latin typeface="楷体_GB2312"/>
                <a:ea typeface="楷体_GB2312"/>
              </a:rPr>
              <a:t>消防设备电源监控系统作为一种预报警系统，其优点是可以提前对消防设备电源故障进行报警，避免火灾发生时消防设备不能正常使用，消防设备电源监控系统一旦投入使用，将有效的降低消防设备非正常投入使用的发生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起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c78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c78"/>
                </a:solidFill>
                <a:latin typeface="楷体_GB2312"/>
                <a:ea typeface="楷体_GB2312"/>
              </a:rPr>
              <a:t>导致消防设备不能正常工作的原因主要就是供电电源的状态，如过压、欠压、缺相、错相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c78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c78"/>
                </a:solidFill>
                <a:latin typeface="楷体_GB2312"/>
                <a:ea typeface="楷体_GB2312"/>
              </a:rPr>
              <a:t>在发生火灾时，消防设备不能正常工作；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2360" y="44280"/>
            <a:ext cx="39607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1.2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国标及地标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"/>
          <p:cNvSpPr/>
          <p:nvPr/>
        </p:nvSpPr>
        <p:spPr>
          <a:xfrm>
            <a:off x="252360" y="1268280"/>
            <a:ext cx="8713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国家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《消防控制室通用技术要求》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GB 25506-201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消防设备电源监控系统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》 </a:t>
            </a:r>
            <a:r>
              <a:rPr b="0" lang="en-US" sz="24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GB</a:t>
            </a:r>
            <a:r>
              <a:rPr b="0" lang="zh-CN" sz="24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28184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国家标准图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消防设备电源监控系统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》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10CX5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  <a:ea typeface="黑体"/>
              </a:rPr>
              <a:t>地方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641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641"/>
                </a:solidFill>
                <a:latin typeface="Arial Rounded MT Bold"/>
                <a:ea typeface="黑体"/>
              </a:rPr>
              <a:t>《消防设备电源监控系统技术规程》</a:t>
            </a:r>
            <a:r>
              <a:rPr b="0" lang="zh-CN" sz="2400" spc="-1" strike="noStrike">
                <a:solidFill>
                  <a:srgbClr val="009641"/>
                </a:solidFill>
                <a:latin typeface="Arial Rounded MT Bold"/>
                <a:ea typeface="黑体"/>
              </a:rPr>
              <a:t>DBJ04—XXX—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641"/>
                </a:solidFill>
                <a:latin typeface="Arial Rounded MT Bold"/>
                <a:ea typeface="黑体"/>
              </a:rPr>
              <a:t>                                              —</a:t>
            </a:r>
            <a:r>
              <a:rPr b="0" lang="zh-CN" sz="2400" spc="-1" strike="noStrike">
                <a:solidFill>
                  <a:srgbClr val="009641"/>
                </a:solidFill>
                <a:latin typeface="Arial Rounded MT Bold"/>
                <a:ea typeface="黑体"/>
              </a:rPr>
              <a:t>山西省工程建设地方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360" y="44280"/>
            <a:ext cx="39607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1.2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国标及地标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34136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《消防控制室通用技术要求》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GB 255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133720"/>
            <a:ext cx="8134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5.7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防设备电源监控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防设备电源监控器应符合下列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a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应能显示消防用电设备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供电电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备用电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工作状态和故障报警信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应能将消防用电设备的供电电源和备用电源的工作状态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欠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报警信息传输给消防控制室图形显示装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2360" y="44280"/>
            <a:ext cx="396072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1.2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国标及地标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1268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消防设备电源监控系统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》 </a:t>
            </a:r>
            <a:r>
              <a:rPr b="1" lang="en-US" sz="28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GB</a:t>
            </a:r>
            <a:r>
              <a:rPr b="1" lang="zh-CN" sz="2800" spc="-1" strike="noStrike">
                <a:solidFill>
                  <a:srgbClr val="ff0000"/>
                </a:solidFill>
                <a:latin typeface="Arial Rounded MT Bold"/>
                <a:ea typeface="黑体"/>
              </a:rPr>
              <a:t> 28184-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700280"/>
            <a:ext cx="8134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1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防设备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为各类消防设备电源的交流或直流电源，包括主电源和备用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.2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消防设备监控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于监控消防设备电源工作状态，在电源发生过压、欠压、过流、缺相等故障时能发出报警信号的监控系统，由消防设备电源状态监控器、电压传感器、电流传感器、电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电流传感器等部分或全部设备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1.2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国标及地标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6" name=""/>
          <p:cNvSpPr/>
          <p:nvPr/>
        </p:nvSpPr>
        <p:spPr>
          <a:xfrm>
            <a:off x="38160" y="83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《消防设备电源监控系统技术规程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DBJ04—XXX—20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341360"/>
            <a:ext cx="4176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感器监控的消防设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989000"/>
          <a:ext cx="8229600" cy="4357800"/>
        </p:xfrm>
        <a:graphic>
          <a:graphicData uri="http://schemas.openxmlformats.org/drawingml/2006/table">
            <a:tbl>
              <a:tblPr/>
              <a:tblGrid>
                <a:gridCol w="658800"/>
                <a:gridCol w="3127320"/>
                <a:gridCol w="4443480"/>
              </a:tblGrid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设施名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消火栓（消防炮）系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消防水泵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自动喷水灭火系统、水幕、水喷雾（细水雾）灭火系统、雨淋喷水灭火系统（泵供水方式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喷淋泵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泡沫灭火系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消防水泵、泡沫液泵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干粉灭火系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供电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气体灭火系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供电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防烟排烟系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防烟排烟风机电源、电动防火阀、电动排烟防火阀、常闭送风口、排烟阀（口）、电动排烟窗、电动挡烟垂壁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防火门和卷帘门系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防火门和卷门机供电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消防电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消防电梯供电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消防应急照明和疏散指示系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照明供电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消防设备应急电源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EPS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所有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消防设备直流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分布在竖井或电气设备间，给消防设备供电的直流电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252360" y="44280"/>
            <a:ext cx="3960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1.2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国标及地标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1.2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国标及地标介绍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"/>
          <p:cNvSpPr/>
          <p:nvPr/>
        </p:nvSpPr>
        <p:spPr>
          <a:xfrm>
            <a:off x="252360" y="44280"/>
            <a:ext cx="39607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1.2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  <a:ea typeface="新宋体"/>
              </a:rPr>
              <a:t>国标及地标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4725" t="7351" r="4838" b="4137"/>
          <a:stretch/>
        </p:blipFill>
        <p:spPr>
          <a:xfrm>
            <a:off x="179280" y="981000"/>
            <a:ext cx="763272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Sky123.Org</cp:lastModifiedBy>
  <dcterms:modified xsi:type="dcterms:W3CDTF">2014-02-11T01:06:59Z</dcterms:modified>
  <cp:revision>4</cp:revision>
  <dc:subject/>
  <dc:title>消防设备电源监控系统及应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656</vt:lpwstr>
  </property>
</Properties>
</file>