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E5D-2C0A-4B09-B567-C7D7A8A8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9071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866040"/>
            <a:ext cx="9071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842-B356-4038-8E05-23A7FDCC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68480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86604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86604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81B-D5DC-4D5D-9C74-8DE1EEAF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29206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684800"/>
            <a:ext cx="29206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684800"/>
            <a:ext cx="29206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866040"/>
            <a:ext cx="29206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866040"/>
            <a:ext cx="29206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866040"/>
            <a:ext cx="29206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85E-FA99-441B-840D-CFF36A45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2615-D113-4626-95A7-76C9CF36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4000" y="1684800"/>
            <a:ext cx="9071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554A-A90B-43C2-B2CC-D0C8ECBE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9071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47DD-FD95-4F82-B845-A98F396D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442692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684800"/>
            <a:ext cx="442692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A422-125F-4604-B6F3-E583F16B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8072-6244-457A-98BD-41DEAC53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4000" y="287280"/>
            <a:ext cx="9071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7781-4FE6-4521-842F-29CC2C54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684800"/>
            <a:ext cx="442692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000" y="386604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0ADE-DD28-424C-B33F-7171C2A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684800"/>
            <a:ext cx="9071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27E-5D77-4597-8F35-A92AF793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442692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68480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2680" y="386604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AC39-4F4D-48D0-9325-8CA229D3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68480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000" y="3866040"/>
            <a:ext cx="9071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5D72-308F-43DA-A461-B592D1A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9071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000" y="3866040"/>
            <a:ext cx="9071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6E89-6926-4407-8ADC-6BF4FAB8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2680" y="168480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000" y="386604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2680" y="386604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A44D-F1E2-43FB-A1D4-6ABDCF59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29206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200" y="1684800"/>
            <a:ext cx="29206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8040" y="1684800"/>
            <a:ext cx="29206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000" y="3866040"/>
            <a:ext cx="29206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1200" y="3866040"/>
            <a:ext cx="29206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8040" y="3866040"/>
            <a:ext cx="29206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5392-9D5F-4129-9C1A-301A8281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9071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038-4E64-4BF8-A95B-D409F20E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442692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684800"/>
            <a:ext cx="442692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6E8-7722-4CE1-85B8-7E630639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91B-D4AB-4116-9678-0EE7EB3C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287280"/>
            <a:ext cx="9071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318-878C-4FE5-A975-D462F66C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684800"/>
            <a:ext cx="442692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86604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916-3F10-4B3A-B7A4-F21B9A8C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442692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68480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86604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26D-8C83-4541-874F-CB066879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68480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684800"/>
            <a:ext cx="44269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866040"/>
            <a:ext cx="9071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CC2-AA44-4F27-880A-A4859C71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2360" cy="120168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679040"/>
            <a:ext cx="9072360" cy="475308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rmAutofit/>
          </a:bodyPr>
          <a:p>
            <a:pPr marL="399960" indent="-3999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6880" indent="-3333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33440" indent="-266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66960" indent="-2667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40048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40048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40048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73320"/>
            <a:ext cx="2352600" cy="381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3400" y="6673320"/>
            <a:ext cx="3192480" cy="381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840" y="6673320"/>
            <a:ext cx="2350800" cy="38124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DCBC-B97F-4295-B0A2-7ECDE507E63F}" type="slidenum">
              <a:rPr b="0" lang="zh-CN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 flipV="1" rot="10800000">
            <a:off x="635040" y="955800"/>
            <a:ext cx="8959680" cy="87120"/>
          </a:xfrm>
          <a:prstGeom prst="rect">
            <a:avLst/>
          </a:prstGeom>
          <a:gradFill rotWithShape="0">
            <a:gsLst>
              <a:gs pos="0">
                <a:srgbClr val="003c78">
                  <a:alpha val="0"/>
                </a:srgbClr>
              </a:gs>
              <a:gs pos="100000">
                <a:srgbClr val="141d0c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3" descr="D:\设计\PotoDesign\原设计\acr1.gif"/>
          <p:cNvPicPr/>
          <p:nvPr/>
        </p:nvPicPr>
        <p:blipFill>
          <a:blip r:embed="rId3"/>
          <a:srcRect l="0" t="0" r="0" b="36065"/>
          <a:stretch/>
        </p:blipFill>
        <p:spPr>
          <a:xfrm>
            <a:off x="525600" y="336600"/>
            <a:ext cx="2050920" cy="565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4"/>
          <a:stretch/>
        </p:blipFill>
        <p:spPr>
          <a:xfrm>
            <a:off x="-14400" y="4943520"/>
            <a:ext cx="7894800" cy="2255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481800" y="6707160"/>
            <a:ext cx="3324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.acrel-eem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502920" y="6555960"/>
            <a:ext cx="235260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443400" y="6555960"/>
            <a:ext cx="3192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224840" y="6555960"/>
            <a:ext cx="235080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9E01-A38B-4BFD-91A8-910CB5EFBA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504000" y="287280"/>
            <a:ext cx="9071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504000" y="1684800"/>
            <a:ext cx="9071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9960" indent="-3999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333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66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400480" indent="-2667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400480" indent="-2667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400480" indent="-2667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3" descr="D:\设计\PotoDesign\原设计\acr1.gif"/>
          <p:cNvPicPr/>
          <p:nvPr/>
        </p:nvPicPr>
        <p:blipFill>
          <a:blip r:embed="rId2"/>
          <a:srcRect l="0" t="0" r="0" b="36065"/>
          <a:stretch/>
        </p:blipFill>
        <p:spPr>
          <a:xfrm>
            <a:off x="7877160" y="625320"/>
            <a:ext cx="171756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"/>
          <p:cNvSpPr/>
          <p:nvPr/>
        </p:nvSpPr>
        <p:spPr>
          <a:xfrm>
            <a:off x="4368960" y="1895400"/>
            <a:ext cx="5711760" cy="34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6699"/>
                </a:solidFill>
                <a:latin typeface="微软雅黑"/>
                <a:ea typeface="微软雅黑"/>
              </a:rPr>
              <a:t>监测光电池阵列中电池板运行状态光电池电流测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6699"/>
                </a:solidFill>
                <a:latin typeface="微软雅黑"/>
                <a:ea typeface="微软雅黑"/>
              </a:rPr>
              <a:t>光电池电流测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6699"/>
                </a:solidFill>
                <a:latin typeface="微软雅黑"/>
                <a:ea typeface="微软雅黑"/>
              </a:rPr>
              <a:t>汇流箱中防雷器状态采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6699"/>
                </a:solidFill>
                <a:latin typeface="微软雅黑"/>
                <a:ea typeface="微软雅黑"/>
              </a:rPr>
              <a:t>直流断路器状态采集、继电器连接输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6699"/>
                </a:solidFill>
                <a:latin typeface="微软雅黑"/>
                <a:ea typeface="微软雅黑"/>
              </a:rPr>
              <a:t>带有温度、辐照、风速等类型传感器输入接口</a:t>
            </a:r>
            <a:r>
              <a:rPr b="0" lang="en-US" sz="2100" spc="-1" strike="noStrike">
                <a:solidFill>
                  <a:srgbClr val="336699"/>
                </a:solidFill>
                <a:latin typeface="微软雅黑"/>
                <a:ea typeface="微软雅黑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6699"/>
                </a:solidFill>
                <a:latin typeface="微软雅黑"/>
                <a:ea typeface="微软雅黑"/>
              </a:rPr>
              <a:t>装置带有</a:t>
            </a:r>
            <a:r>
              <a:rPr b="0" lang="en-US" sz="2100" spc="-1" strike="noStrike">
                <a:solidFill>
                  <a:srgbClr val="336699"/>
                </a:solidFill>
                <a:latin typeface="微软雅黑"/>
                <a:ea typeface="微软雅黑"/>
              </a:rPr>
              <a:t>RS485</a:t>
            </a:r>
            <a:r>
              <a:rPr b="0" lang="zh-CN" sz="2100" spc="-1" strike="noStrike">
                <a:solidFill>
                  <a:srgbClr val="336699"/>
                </a:solidFill>
                <a:latin typeface="微软雅黑"/>
                <a:ea typeface="微软雅黑"/>
              </a:rPr>
              <a:t>接口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336699"/>
                </a:solidFill>
                <a:latin typeface="微软雅黑"/>
                <a:ea typeface="微软雅黑"/>
              </a:rPr>
              <a:t>采集到的数据和设备状态上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1075680" y="1222200"/>
            <a:ext cx="265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t">
            <a:spAutoFit/>
          </a:bodyPr>
          <a:p>
            <a:pPr marL="333360" indent="-333360" algn="ctr">
              <a:lnSpc>
                <a:spcPct val="10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336699"/>
                </a:solidFill>
                <a:latin typeface="微软雅黑"/>
                <a:ea typeface="微软雅黑"/>
              </a:rPr>
              <a:t>专门应用于智能光伏汇流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28" descr=""/>
          <p:cNvPicPr/>
          <p:nvPr/>
        </p:nvPicPr>
        <p:blipFill>
          <a:blip r:embed="rId1"/>
          <a:stretch/>
        </p:blipFill>
        <p:spPr>
          <a:xfrm>
            <a:off x="542880" y="2860560"/>
            <a:ext cx="3476520" cy="4168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6"/>
          <p:cNvSpPr/>
          <p:nvPr/>
        </p:nvSpPr>
        <p:spPr>
          <a:xfrm>
            <a:off x="2502000" y="239760"/>
            <a:ext cx="711972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3c78"/>
                </a:solidFill>
                <a:latin typeface="Arial"/>
                <a:ea typeface="微软雅黑"/>
              </a:rPr>
              <a:t>AGF</a:t>
            </a: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系列导轨式智能光伏汇流采集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5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75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4"/>
          <p:cNvSpPr/>
          <p:nvPr/>
        </p:nvSpPr>
        <p:spPr>
          <a:xfrm>
            <a:off x="1075680" y="1222200"/>
            <a:ext cx="265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t">
            <a:spAutoFit/>
          </a:bodyPr>
          <a:p>
            <a:pPr marL="333360" indent="-333360" algn="ctr">
              <a:lnSpc>
                <a:spcPct val="10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336699"/>
                </a:solidFill>
                <a:latin typeface="微软雅黑"/>
                <a:ea typeface="微软雅黑"/>
              </a:rPr>
              <a:t>专门应用于智能光伏汇流箱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6"/>
          <p:cNvSpPr/>
          <p:nvPr/>
        </p:nvSpPr>
        <p:spPr>
          <a:xfrm>
            <a:off x="2502000" y="239760"/>
            <a:ext cx="711972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3c78"/>
                </a:solidFill>
                <a:latin typeface="Arial"/>
                <a:ea typeface="微软雅黑"/>
              </a:rPr>
              <a:t>AGF</a:t>
            </a: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系列穿孔式智能光伏汇流采集装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6" descr=""/>
          <p:cNvPicPr/>
          <p:nvPr/>
        </p:nvPicPr>
        <p:blipFill>
          <a:blip r:embed="rId1"/>
          <a:stretch/>
        </p:blipFill>
        <p:spPr>
          <a:xfrm>
            <a:off x="0" y="2225520"/>
            <a:ext cx="5861160" cy="3537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8"/>
          <p:cNvSpPr/>
          <p:nvPr/>
        </p:nvSpPr>
        <p:spPr>
          <a:xfrm>
            <a:off x="5861160" y="1492200"/>
            <a:ext cx="421956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光伏电池串开路报警，状态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带开关量输入，用于采集直流断路器、防雷器等输出空接点状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带继电器输出，可以设定为点动方式，用于驱动直流断路器的自动分合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提供温度、辐照、风速等类型传感器输入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可输出</a:t>
            </a:r>
            <a:r>
              <a:rPr b="0" lang="en-US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DC24V</a:t>
            </a: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电源给外部传感器供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就地数码管循环显示每通道的输入电流，并具有自动关闭节能显示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7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75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75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6"/>
          <p:cNvSpPr/>
          <p:nvPr/>
        </p:nvSpPr>
        <p:spPr>
          <a:xfrm>
            <a:off x="2502000" y="239760"/>
            <a:ext cx="711972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微逆变器应用系统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3"/>
          <p:cNvPicPr/>
          <p:nvPr/>
        </p:nvPicPr>
        <p:blipFill>
          <a:blip r:embed="rId1"/>
          <a:stretch/>
        </p:blipFill>
        <p:spPr>
          <a:xfrm>
            <a:off x="576360" y="1727280"/>
            <a:ext cx="8785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6"/>
          <p:cNvSpPr/>
          <p:nvPr/>
        </p:nvSpPr>
        <p:spPr>
          <a:xfrm>
            <a:off x="2502000" y="239760"/>
            <a:ext cx="711972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AMI-250</a:t>
            </a: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微型逆变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4"/>
          <p:cNvPicPr/>
          <p:nvPr/>
        </p:nvPicPr>
        <p:blipFill>
          <a:blip r:embed="rId1"/>
          <a:stretch/>
        </p:blipFill>
        <p:spPr>
          <a:xfrm>
            <a:off x="1440000" y="1655640"/>
            <a:ext cx="70880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6"/>
          <p:cNvSpPr/>
          <p:nvPr/>
        </p:nvSpPr>
        <p:spPr>
          <a:xfrm>
            <a:off x="2502000" y="239760"/>
            <a:ext cx="711972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AMI-250</a:t>
            </a: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微型逆变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936720" y="1727280"/>
            <a:ext cx="8229240" cy="4527360"/>
            <a:chOff x="936720" y="1727280"/>
            <a:chExt cx="8229240" cy="4527360"/>
          </a:xfrm>
        </p:grpSpPr>
        <p:sp>
          <p:nvSpPr>
            <p:cNvPr id="210" name="Rectangle 5"/>
            <p:cNvSpPr/>
            <p:nvPr/>
          </p:nvSpPr>
          <p:spPr>
            <a:xfrm rot="5400000">
              <a:off x="6184080" y="-471240"/>
              <a:ext cx="6962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 rot="10800000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无直流高压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936720" y="1727280"/>
              <a:ext cx="2962440" cy="87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f7933"/>
                </a:gs>
                <a:gs pos="100000">
                  <a:srgbClr val="d5a04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936720" y="1727280"/>
              <a:ext cx="296244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72360" bIns="72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ffffff"/>
                  </a:solidFill>
                  <a:latin typeface="Arial"/>
                </a:rPr>
                <a:t>安全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 rot="5400000">
              <a:off x="6184080" y="442800"/>
              <a:ext cx="6962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 rot="10800000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个组件的监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0"/>
            <p:cNvSpPr/>
            <p:nvPr/>
          </p:nvSpPr>
          <p:spPr>
            <a:xfrm>
              <a:off x="936720" y="2641320"/>
              <a:ext cx="2962440" cy="87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f7933"/>
                </a:gs>
                <a:gs pos="100000">
                  <a:srgbClr val="d5a04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936720" y="2641320"/>
              <a:ext cx="296244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72360" bIns="72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ffffff"/>
                  </a:solidFill>
                  <a:latin typeface="Arial"/>
                </a:rPr>
                <a:t>智能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 rot="5400000">
              <a:off x="6184080" y="1357200"/>
              <a:ext cx="6962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 rot="10800000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无单点故障、保质期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4"/>
            <p:cNvSpPr/>
            <p:nvPr/>
          </p:nvSpPr>
          <p:spPr>
            <a:xfrm>
              <a:off x="936720" y="3555720"/>
              <a:ext cx="2962440" cy="87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f7933"/>
                </a:gs>
                <a:gs pos="100000">
                  <a:srgbClr val="d5a04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936720" y="3555720"/>
              <a:ext cx="296244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72360" bIns="72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ffffff"/>
                  </a:solidFill>
                  <a:latin typeface="Arial"/>
                </a:rPr>
                <a:t>可靠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7"/>
            <p:cNvSpPr/>
            <p:nvPr/>
          </p:nvSpPr>
          <p:spPr>
            <a:xfrm rot="5400000">
              <a:off x="6184080" y="2271240"/>
              <a:ext cx="6962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 rot="10800000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没有组件串联的短板效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8"/>
            <p:cNvSpPr/>
            <p:nvPr/>
          </p:nvSpPr>
          <p:spPr>
            <a:xfrm>
              <a:off x="936720" y="4469760"/>
              <a:ext cx="2962440" cy="87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f7933"/>
                </a:gs>
                <a:gs pos="100000">
                  <a:srgbClr val="d5a04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9"/>
            <p:cNvSpPr/>
            <p:nvPr/>
          </p:nvSpPr>
          <p:spPr>
            <a:xfrm>
              <a:off x="936720" y="4469760"/>
              <a:ext cx="296244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72360" bIns="7236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ffffff"/>
                  </a:solidFill>
                  <a:latin typeface="Arial"/>
                </a:rPr>
                <a:t>多发电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 rot="5400000">
              <a:off x="6184080" y="3180240"/>
              <a:ext cx="696240" cy="52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 rot="10800000">
              <a:noAutofit/>
            </a:bodyPr>
            <a:p>
              <a:pPr lvl="1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无直流零部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22"/>
            <p:cNvSpPr/>
            <p:nvPr/>
          </p:nvSpPr>
          <p:spPr>
            <a:xfrm>
              <a:off x="936720" y="5384160"/>
              <a:ext cx="2962440" cy="87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f7933"/>
                </a:gs>
                <a:gs pos="100000">
                  <a:srgbClr val="d5a04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936720" y="5384160"/>
              <a:ext cx="296244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72360" bIns="72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ffffff"/>
                  </a:solidFill>
                  <a:latin typeface="Arial"/>
                </a:rPr>
                <a:t>简单节省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96"/>
          <p:cNvSpPr/>
          <p:nvPr/>
        </p:nvSpPr>
        <p:spPr>
          <a:xfrm>
            <a:off x="2502000" y="239760"/>
            <a:ext cx="711972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AMI-250</a:t>
            </a: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微型逆变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63760" y="1092240"/>
            <a:ext cx="5448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反向电能计量（反向计入总电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时复费率电能计量：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费率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量冻结转存（三个月历史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压电流测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+2 L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数位浮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无源脉冲输出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步指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S48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讯（支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BUS-RT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协议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L/T6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规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铅封防窃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ADL-100"/>
          <p:cNvPicPr/>
          <p:nvPr/>
        </p:nvPicPr>
        <p:blipFill>
          <a:blip r:embed="rId1"/>
          <a:stretch/>
        </p:blipFill>
        <p:spPr>
          <a:xfrm>
            <a:off x="349200" y="2116080"/>
            <a:ext cx="23716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5" descr=""/>
          <p:cNvPicPr/>
          <p:nvPr/>
        </p:nvPicPr>
        <p:blipFill>
          <a:blip r:embed="rId1"/>
          <a:stretch/>
        </p:blipFill>
        <p:spPr>
          <a:xfrm>
            <a:off x="531720" y="1739880"/>
            <a:ext cx="4424400" cy="758844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5256360" y="1295280"/>
            <a:ext cx="3438000" cy="675720"/>
            <a:chOff x="5256360" y="1295280"/>
            <a:chExt cx="3438000" cy="675720"/>
          </a:xfrm>
        </p:grpSpPr>
        <p:pic>
          <p:nvPicPr>
            <p:cNvPr id="230" name="矩形 5" descr=""/>
            <p:cNvPicPr/>
            <p:nvPr/>
          </p:nvPicPr>
          <p:blipFill>
            <a:blip r:embed="rId2"/>
            <a:stretch/>
          </p:blipFill>
          <p:spPr>
            <a:xfrm>
              <a:off x="5256360" y="1299240"/>
              <a:ext cx="34380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5"/>
            <p:cNvSpPr/>
            <p:nvPr/>
          </p:nvSpPr>
          <p:spPr>
            <a:xfrm>
              <a:off x="5905800" y="1295280"/>
              <a:ext cx="21373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82640"/>
                  <a:tab algn="l" pos="1565280"/>
                  <a:tab algn="l" pos="2347920"/>
                  <a:tab algn="l" pos="3130560"/>
                  <a:tab algn="l" pos="3913200"/>
                  <a:tab algn="l" pos="4695840"/>
                  <a:tab algn="l" pos="5478480"/>
                  <a:tab algn="l" pos="6261120"/>
                  <a:tab algn="l" pos="7043760"/>
                  <a:tab algn="l" pos="7826400"/>
                  <a:tab algn="l" pos="8609040"/>
                  <a:tab algn="l" pos="9391680"/>
                  <a:tab algn="l" pos="10174320"/>
                  <a:tab algn="l" pos="109569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监控系统提供功能选择主界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太阳形 2"/>
          <p:cNvSpPr/>
          <p:nvPr/>
        </p:nvSpPr>
        <p:spPr>
          <a:xfrm>
            <a:off x="5159520" y="1598760"/>
            <a:ext cx="222120" cy="263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太阳形 7"/>
          <p:cNvSpPr/>
          <p:nvPr/>
        </p:nvSpPr>
        <p:spPr>
          <a:xfrm>
            <a:off x="5159520" y="2374920"/>
            <a:ext cx="222120" cy="2649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"/>
          <p:cNvSpPr/>
          <p:nvPr/>
        </p:nvSpPr>
        <p:spPr>
          <a:xfrm>
            <a:off x="4756320" y="2157480"/>
            <a:ext cx="504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Arial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  <a:ea typeface="微软雅黑"/>
              </a:rPr>
              <a:t>对光伏阵列现场环境实时监测并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5"/>
          <p:cNvSpPr/>
          <p:nvPr/>
        </p:nvSpPr>
        <p:spPr>
          <a:xfrm>
            <a:off x="5829480" y="2700360"/>
            <a:ext cx="1680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Arial"/>
                <a:ea typeface="微软雅黑"/>
              </a:rPr>
              <a:t>   </a:t>
            </a:r>
            <a:r>
              <a:rPr b="1" lang="zh-CN" sz="1600" spc="-1" strike="noStrike">
                <a:solidFill>
                  <a:srgbClr val="660066"/>
                </a:solidFill>
                <a:latin typeface="Arial"/>
                <a:ea typeface="微软雅黑"/>
              </a:rPr>
              <a:t>室外温度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6"/>
          <p:cNvSpPr/>
          <p:nvPr/>
        </p:nvSpPr>
        <p:spPr>
          <a:xfrm>
            <a:off x="5940360" y="3308400"/>
            <a:ext cx="16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zh-CN" sz="1600" spc="-1" strike="noStrike">
                <a:solidFill>
                  <a:srgbClr val="660066"/>
                </a:solidFill>
                <a:latin typeface="Arial"/>
                <a:ea typeface="微软雅黑"/>
              </a:rPr>
              <a:t>温度百分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7"/>
          <p:cNvSpPr/>
          <p:nvPr/>
        </p:nvSpPr>
        <p:spPr>
          <a:xfrm>
            <a:off x="5997600" y="3857760"/>
            <a:ext cx="16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  <a:ea typeface="微软雅黑"/>
              </a:rPr>
              <a:t>   </a:t>
            </a:r>
            <a:r>
              <a:rPr b="1" lang="zh-CN" sz="1600" spc="-1" strike="noStrike">
                <a:solidFill>
                  <a:srgbClr val="660066"/>
                </a:solidFill>
                <a:latin typeface="Arial"/>
                <a:ea typeface="微软雅黑"/>
              </a:rPr>
              <a:t>光照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角上箭头 19"/>
          <p:cNvSpPr/>
          <p:nvPr/>
        </p:nvSpPr>
        <p:spPr>
          <a:xfrm rot="5400000">
            <a:off x="5632200" y="2849400"/>
            <a:ext cx="693720" cy="703440"/>
          </a:xfrm>
          <a:custGeom>
            <a:avLst/>
            <a:gdLst/>
            <a:ahLst/>
            <a:rect l="l" t="t" r="r" b="b"/>
            <a:pathLst>
              <a:path w="669925" h="527050">
                <a:moveTo>
                  <a:pt x="0" y="511239"/>
                </a:moveTo>
                <a:lnTo>
                  <a:pt x="631229" y="511239"/>
                </a:lnTo>
                <a:lnTo>
                  <a:pt x="631229" y="48420"/>
                </a:lnTo>
                <a:lnTo>
                  <a:pt x="608344" y="48420"/>
                </a:lnTo>
                <a:lnTo>
                  <a:pt x="639135" y="0"/>
                </a:lnTo>
                <a:lnTo>
                  <a:pt x="669925" y="48420"/>
                </a:lnTo>
                <a:lnTo>
                  <a:pt x="647040" y="48420"/>
                </a:lnTo>
                <a:lnTo>
                  <a:pt x="647040" y="527050"/>
                </a:lnTo>
                <a:lnTo>
                  <a:pt x="0" y="527050"/>
                </a:lnTo>
                <a:lnTo>
                  <a:pt x="0" y="511239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角上箭头 23"/>
          <p:cNvSpPr/>
          <p:nvPr/>
        </p:nvSpPr>
        <p:spPr>
          <a:xfrm rot="5400000">
            <a:off x="5631480" y="3410640"/>
            <a:ext cx="695520" cy="703440"/>
          </a:xfrm>
          <a:custGeom>
            <a:avLst/>
            <a:gdLst/>
            <a:ahLst/>
            <a:rect l="l" t="t" r="r" b="b"/>
            <a:pathLst>
              <a:path w="669925" h="527050">
                <a:moveTo>
                  <a:pt x="0" y="511239"/>
                </a:moveTo>
                <a:lnTo>
                  <a:pt x="631229" y="511239"/>
                </a:lnTo>
                <a:lnTo>
                  <a:pt x="631229" y="48420"/>
                </a:lnTo>
                <a:lnTo>
                  <a:pt x="608344" y="48420"/>
                </a:lnTo>
                <a:lnTo>
                  <a:pt x="639135" y="0"/>
                </a:lnTo>
                <a:lnTo>
                  <a:pt x="669925" y="48420"/>
                </a:lnTo>
                <a:lnTo>
                  <a:pt x="647040" y="48420"/>
                </a:lnTo>
                <a:lnTo>
                  <a:pt x="647040" y="527050"/>
                </a:lnTo>
                <a:lnTo>
                  <a:pt x="0" y="527050"/>
                </a:lnTo>
                <a:lnTo>
                  <a:pt x="0" y="511239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角上箭头 24"/>
          <p:cNvSpPr/>
          <p:nvPr/>
        </p:nvSpPr>
        <p:spPr>
          <a:xfrm rot="5400000">
            <a:off x="5806080" y="2531160"/>
            <a:ext cx="346320" cy="703440"/>
          </a:xfrm>
          <a:custGeom>
            <a:avLst/>
            <a:gdLst/>
            <a:ahLst/>
            <a:rect l="l" t="t" r="r" b="b"/>
            <a:pathLst>
              <a:path w="334962" h="527050">
                <a:moveTo>
                  <a:pt x="0" y="509856"/>
                </a:moveTo>
                <a:lnTo>
                  <a:pt x="293700" y="509856"/>
                </a:lnTo>
                <a:lnTo>
                  <a:pt x="293700" y="49826"/>
                </a:lnTo>
                <a:lnTo>
                  <a:pt x="269631" y="49826"/>
                </a:lnTo>
                <a:lnTo>
                  <a:pt x="302297" y="0"/>
                </a:lnTo>
                <a:lnTo>
                  <a:pt x="334962" y="49826"/>
                </a:lnTo>
                <a:lnTo>
                  <a:pt x="310893" y="49826"/>
                </a:lnTo>
                <a:lnTo>
                  <a:pt x="310893" y="527050"/>
                </a:lnTo>
                <a:lnTo>
                  <a:pt x="0" y="527050"/>
                </a:lnTo>
                <a:lnTo>
                  <a:pt x="0" y="50985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角上箭头 25"/>
          <p:cNvSpPr/>
          <p:nvPr/>
        </p:nvSpPr>
        <p:spPr>
          <a:xfrm rot="5400000">
            <a:off x="5632920" y="4004640"/>
            <a:ext cx="693720" cy="701640"/>
          </a:xfrm>
          <a:custGeom>
            <a:avLst/>
            <a:gdLst/>
            <a:ahLst/>
            <a:rect l="l" t="t" r="r" b="b"/>
            <a:pathLst>
              <a:path w="669925" h="527050">
                <a:moveTo>
                  <a:pt x="0" y="511239"/>
                </a:moveTo>
                <a:lnTo>
                  <a:pt x="631229" y="511239"/>
                </a:lnTo>
                <a:lnTo>
                  <a:pt x="631229" y="48420"/>
                </a:lnTo>
                <a:lnTo>
                  <a:pt x="608344" y="48420"/>
                </a:lnTo>
                <a:lnTo>
                  <a:pt x="639135" y="0"/>
                </a:lnTo>
                <a:lnTo>
                  <a:pt x="669925" y="48420"/>
                </a:lnTo>
                <a:lnTo>
                  <a:pt x="647040" y="48420"/>
                </a:lnTo>
                <a:lnTo>
                  <a:pt x="647040" y="527050"/>
                </a:lnTo>
                <a:lnTo>
                  <a:pt x="0" y="527050"/>
                </a:lnTo>
                <a:lnTo>
                  <a:pt x="0" y="511239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26"/>
          <p:cNvSpPr/>
          <p:nvPr/>
        </p:nvSpPr>
        <p:spPr>
          <a:xfrm>
            <a:off x="5979960" y="4438800"/>
            <a:ext cx="19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  <a:ea typeface="微软雅黑"/>
              </a:rPr>
              <a:t>   </a:t>
            </a:r>
            <a:r>
              <a:rPr b="1" lang="zh-CN" sz="1600" spc="-1" strike="noStrike">
                <a:solidFill>
                  <a:srgbClr val="660066"/>
                </a:solidFill>
                <a:latin typeface="Arial"/>
                <a:ea typeface="微软雅黑"/>
              </a:rPr>
              <a:t>阵列表面温度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8"/>
          <p:cNvSpPr/>
          <p:nvPr/>
        </p:nvSpPr>
        <p:spPr>
          <a:xfrm>
            <a:off x="2930400" y="239760"/>
            <a:ext cx="6645240" cy="627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建筑一体化光伏系统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6232680" y="1511280"/>
            <a:ext cx="1763280" cy="669960"/>
            <a:chOff x="6232680" y="1511280"/>
            <a:chExt cx="1763280" cy="669960"/>
          </a:xfrm>
        </p:grpSpPr>
        <p:pic>
          <p:nvPicPr>
            <p:cNvPr id="245" name="矩形 5" descr=""/>
            <p:cNvPicPr/>
            <p:nvPr/>
          </p:nvPicPr>
          <p:blipFill>
            <a:blip r:embed="rId1"/>
            <a:stretch/>
          </p:blipFill>
          <p:spPr>
            <a:xfrm>
              <a:off x="6232680" y="1511280"/>
              <a:ext cx="17632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4"/>
            <p:cNvSpPr/>
            <p:nvPr/>
          </p:nvSpPr>
          <p:spPr>
            <a:xfrm>
              <a:off x="6526440" y="1513080"/>
              <a:ext cx="11772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82640"/>
                  <a:tab algn="l" pos="1565280"/>
                  <a:tab algn="l" pos="2347920"/>
                  <a:tab algn="l" pos="3130560"/>
                  <a:tab algn="l" pos="3913200"/>
                  <a:tab algn="l" pos="4695840"/>
                  <a:tab algn="l" pos="5478480"/>
                  <a:tab algn="l" pos="6261120"/>
                  <a:tab algn="l" pos="7043760"/>
                  <a:tab algn="l" pos="7826400"/>
                  <a:tab algn="l" pos="8609040"/>
                  <a:tab algn="l" pos="9391680"/>
                  <a:tab algn="l" pos="10174320"/>
                  <a:tab algn="l" pos="109569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汇流监测界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太阳形 6"/>
          <p:cNvSpPr/>
          <p:nvPr/>
        </p:nvSpPr>
        <p:spPr>
          <a:xfrm>
            <a:off x="6010200" y="2243160"/>
            <a:ext cx="225360" cy="266760"/>
          </a:xfrm>
          <a:prstGeom prst="sun">
            <a:avLst>
              <a:gd name="adj" fmla="val 25000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6"/>
          <p:cNvGrpSpPr/>
          <p:nvPr/>
        </p:nvGrpSpPr>
        <p:grpSpPr>
          <a:xfrm>
            <a:off x="6232680" y="2057400"/>
            <a:ext cx="2482200" cy="680760"/>
            <a:chOff x="6232680" y="2057400"/>
            <a:chExt cx="2482200" cy="680760"/>
          </a:xfrm>
        </p:grpSpPr>
        <p:pic>
          <p:nvPicPr>
            <p:cNvPr id="249" name="矩形 7" descr=""/>
            <p:cNvPicPr/>
            <p:nvPr/>
          </p:nvPicPr>
          <p:blipFill>
            <a:blip r:embed="rId2"/>
            <a:stretch/>
          </p:blipFill>
          <p:spPr>
            <a:xfrm>
              <a:off x="6232680" y="2057400"/>
              <a:ext cx="24822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8"/>
            <p:cNvSpPr/>
            <p:nvPr/>
          </p:nvSpPr>
          <p:spPr>
            <a:xfrm>
              <a:off x="6680160" y="2059200"/>
              <a:ext cx="15886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82640"/>
                  <a:tab algn="l" pos="1565280"/>
                  <a:tab algn="l" pos="2347920"/>
                  <a:tab algn="l" pos="3130560"/>
                  <a:tab algn="l" pos="3913200"/>
                  <a:tab algn="l" pos="4695840"/>
                  <a:tab algn="l" pos="5478480"/>
                  <a:tab algn="l" pos="6261120"/>
                  <a:tab algn="l" pos="7043760"/>
                  <a:tab algn="l" pos="7826400"/>
                  <a:tab algn="l" pos="8609040"/>
                  <a:tab algn="l" pos="9391680"/>
                  <a:tab algn="l" pos="10174320"/>
                  <a:tab algn="l" pos="109569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实时监测各光伏阵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直角上箭头 8"/>
          <p:cNvSpPr/>
          <p:nvPr/>
        </p:nvSpPr>
        <p:spPr>
          <a:xfrm rot="5400000">
            <a:off x="6659280" y="2733840"/>
            <a:ext cx="693720" cy="703080"/>
          </a:xfrm>
          <a:custGeom>
            <a:avLst/>
            <a:gdLst/>
            <a:ahLst/>
            <a:rect l="l" t="t" r="r" b="b"/>
            <a:pathLst>
              <a:path w="669925" h="527050">
                <a:moveTo>
                  <a:pt x="0" y="511239"/>
                </a:moveTo>
                <a:lnTo>
                  <a:pt x="631229" y="511239"/>
                </a:lnTo>
                <a:lnTo>
                  <a:pt x="631229" y="48420"/>
                </a:lnTo>
                <a:lnTo>
                  <a:pt x="608344" y="48420"/>
                </a:lnTo>
                <a:lnTo>
                  <a:pt x="639135" y="0"/>
                </a:lnTo>
                <a:lnTo>
                  <a:pt x="669925" y="48420"/>
                </a:lnTo>
                <a:lnTo>
                  <a:pt x="647040" y="48420"/>
                </a:lnTo>
                <a:lnTo>
                  <a:pt x="647040" y="527050"/>
                </a:lnTo>
                <a:lnTo>
                  <a:pt x="0" y="527050"/>
                </a:lnTo>
                <a:lnTo>
                  <a:pt x="0" y="511239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角上箭头 9"/>
          <p:cNvSpPr/>
          <p:nvPr/>
        </p:nvSpPr>
        <p:spPr>
          <a:xfrm rot="5400000">
            <a:off x="6660000" y="3293280"/>
            <a:ext cx="692280" cy="703080"/>
          </a:xfrm>
          <a:custGeom>
            <a:avLst/>
            <a:gdLst/>
            <a:ahLst/>
            <a:rect l="l" t="t" r="r" b="b"/>
            <a:pathLst>
              <a:path w="668338" h="527050">
                <a:moveTo>
                  <a:pt x="0" y="511239"/>
                </a:moveTo>
                <a:lnTo>
                  <a:pt x="629642" y="511239"/>
                </a:lnTo>
                <a:lnTo>
                  <a:pt x="629642" y="48420"/>
                </a:lnTo>
                <a:lnTo>
                  <a:pt x="606757" y="48420"/>
                </a:lnTo>
                <a:lnTo>
                  <a:pt x="637548" y="0"/>
                </a:lnTo>
                <a:lnTo>
                  <a:pt x="668338" y="48420"/>
                </a:lnTo>
                <a:lnTo>
                  <a:pt x="645453" y="48420"/>
                </a:lnTo>
                <a:lnTo>
                  <a:pt x="645453" y="527050"/>
                </a:lnTo>
                <a:lnTo>
                  <a:pt x="0" y="527050"/>
                </a:lnTo>
                <a:lnTo>
                  <a:pt x="0" y="511239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角上箭头 10"/>
          <p:cNvSpPr/>
          <p:nvPr/>
        </p:nvSpPr>
        <p:spPr>
          <a:xfrm rot="5400000">
            <a:off x="6832800" y="2416680"/>
            <a:ext cx="347760" cy="701640"/>
          </a:xfrm>
          <a:custGeom>
            <a:avLst/>
            <a:gdLst/>
            <a:ahLst/>
            <a:rect l="l" t="t" r="r" b="b"/>
            <a:pathLst>
              <a:path w="334963" h="527050">
                <a:moveTo>
                  <a:pt x="0" y="509856"/>
                </a:moveTo>
                <a:lnTo>
                  <a:pt x="293701" y="509856"/>
                </a:lnTo>
                <a:lnTo>
                  <a:pt x="293701" y="49826"/>
                </a:lnTo>
                <a:lnTo>
                  <a:pt x="269632" y="49826"/>
                </a:lnTo>
                <a:lnTo>
                  <a:pt x="302297" y="0"/>
                </a:lnTo>
                <a:lnTo>
                  <a:pt x="334963" y="49826"/>
                </a:lnTo>
                <a:lnTo>
                  <a:pt x="310894" y="49826"/>
                </a:lnTo>
                <a:lnTo>
                  <a:pt x="310894" y="527050"/>
                </a:lnTo>
                <a:lnTo>
                  <a:pt x="0" y="527050"/>
                </a:lnTo>
                <a:lnTo>
                  <a:pt x="0" y="50985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角上箭头 11"/>
          <p:cNvSpPr/>
          <p:nvPr/>
        </p:nvSpPr>
        <p:spPr>
          <a:xfrm rot="5400000">
            <a:off x="6659280" y="3886200"/>
            <a:ext cx="693720" cy="703080"/>
          </a:xfrm>
          <a:custGeom>
            <a:avLst/>
            <a:gdLst/>
            <a:ahLst/>
            <a:rect l="l" t="t" r="r" b="b"/>
            <a:pathLst>
              <a:path w="669925" h="527050">
                <a:moveTo>
                  <a:pt x="0" y="511239"/>
                </a:moveTo>
                <a:lnTo>
                  <a:pt x="631229" y="511239"/>
                </a:lnTo>
                <a:lnTo>
                  <a:pt x="631229" y="48420"/>
                </a:lnTo>
                <a:lnTo>
                  <a:pt x="608344" y="48420"/>
                </a:lnTo>
                <a:lnTo>
                  <a:pt x="639135" y="0"/>
                </a:lnTo>
                <a:lnTo>
                  <a:pt x="669925" y="48420"/>
                </a:lnTo>
                <a:lnTo>
                  <a:pt x="647040" y="48420"/>
                </a:lnTo>
                <a:lnTo>
                  <a:pt x="647040" y="527050"/>
                </a:lnTo>
                <a:lnTo>
                  <a:pt x="0" y="527050"/>
                </a:lnTo>
                <a:lnTo>
                  <a:pt x="0" y="511239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太阳形 12"/>
          <p:cNvSpPr/>
          <p:nvPr/>
        </p:nvSpPr>
        <p:spPr>
          <a:xfrm>
            <a:off x="6010200" y="5062680"/>
            <a:ext cx="225360" cy="264960"/>
          </a:xfrm>
          <a:prstGeom prst="sun">
            <a:avLst>
              <a:gd name="adj" fmla="val 25000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4"/>
          <p:cNvGrpSpPr/>
          <p:nvPr/>
        </p:nvGrpSpPr>
        <p:grpSpPr>
          <a:xfrm>
            <a:off x="7118280" y="2543040"/>
            <a:ext cx="1174320" cy="609480"/>
            <a:chOff x="7118280" y="2543040"/>
            <a:chExt cx="1174320" cy="609480"/>
          </a:xfrm>
        </p:grpSpPr>
        <p:pic>
          <p:nvPicPr>
            <p:cNvPr id="257" name="矩形 13" descr=""/>
            <p:cNvPicPr/>
            <p:nvPr/>
          </p:nvPicPr>
          <p:blipFill>
            <a:blip r:embed="rId3"/>
            <a:stretch/>
          </p:blipFill>
          <p:spPr>
            <a:xfrm>
              <a:off x="7118280" y="2543040"/>
              <a:ext cx="11743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16"/>
            <p:cNvSpPr/>
            <p:nvPr/>
          </p:nvSpPr>
          <p:spPr>
            <a:xfrm>
              <a:off x="7282800" y="2543040"/>
              <a:ext cx="8420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82640"/>
                  <a:tab algn="l" pos="1565280"/>
                  <a:tab algn="l" pos="2347920"/>
                  <a:tab algn="l" pos="3130560"/>
                  <a:tab algn="l" pos="3913200"/>
                  <a:tab algn="l" pos="4695840"/>
                  <a:tab algn="l" pos="5478480"/>
                  <a:tab algn="l" pos="6261120"/>
                  <a:tab algn="l" pos="7043760"/>
                  <a:tab algn="l" pos="7826400"/>
                  <a:tab algn="l" pos="8609040"/>
                  <a:tab algn="l" pos="9391680"/>
                  <a:tab algn="l" pos="10174320"/>
                  <a:tab algn="l" pos="109569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</a:t>
              </a:r>
              <a:r>
                <a:rPr b="1" lang="zh-CN" sz="1600" spc="-1" strike="noStrike">
                  <a:solidFill>
                    <a:srgbClr val="660066"/>
                  </a:solidFill>
                  <a:latin typeface="Arial"/>
                  <a:ea typeface="微软雅黑"/>
                </a:rPr>
                <a:t>充电电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矩形 14"/>
          <p:cNvSpPr/>
          <p:nvPr/>
        </p:nvSpPr>
        <p:spPr>
          <a:xfrm>
            <a:off x="7467480" y="3114720"/>
            <a:ext cx="66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zh-CN" sz="1600" spc="-1" strike="noStrike">
                <a:solidFill>
                  <a:srgbClr val="660066"/>
                </a:solidFill>
                <a:latin typeface="Arial"/>
                <a:ea typeface="微软雅黑"/>
              </a:rPr>
              <a:t>充电电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5"/>
          <p:cNvSpPr/>
          <p:nvPr/>
        </p:nvSpPr>
        <p:spPr>
          <a:xfrm>
            <a:off x="7512840" y="375444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zh-CN" sz="1600" spc="-1" strike="noStrike">
                <a:solidFill>
                  <a:srgbClr val="660066"/>
                </a:solidFill>
                <a:latin typeface="Arial"/>
                <a:ea typeface="微软雅黑"/>
              </a:rPr>
              <a:t>蓄电池电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6"/>
          <p:cNvSpPr/>
          <p:nvPr/>
        </p:nvSpPr>
        <p:spPr>
          <a:xfrm>
            <a:off x="7512840" y="436392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zh-CN" sz="1600" spc="-1" strike="noStrike">
                <a:solidFill>
                  <a:srgbClr val="660066"/>
                </a:solidFill>
                <a:latin typeface="Arial"/>
                <a:ea typeface="微软雅黑"/>
              </a:rPr>
              <a:t>蓄电池温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0"/>
          <p:cNvGrpSpPr/>
          <p:nvPr/>
        </p:nvGrpSpPr>
        <p:grpSpPr>
          <a:xfrm>
            <a:off x="6232680" y="4849920"/>
            <a:ext cx="2482200" cy="675720"/>
            <a:chOff x="6232680" y="4849920"/>
            <a:chExt cx="2482200" cy="675720"/>
          </a:xfrm>
        </p:grpSpPr>
        <p:pic>
          <p:nvPicPr>
            <p:cNvPr id="263" name="矩形 17" descr=""/>
            <p:cNvPicPr/>
            <p:nvPr/>
          </p:nvPicPr>
          <p:blipFill>
            <a:blip r:embed="rId4"/>
            <a:stretch/>
          </p:blipFill>
          <p:spPr>
            <a:xfrm>
              <a:off x="6232680" y="4851720"/>
              <a:ext cx="2482200" cy="6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22"/>
            <p:cNvSpPr/>
            <p:nvPr/>
          </p:nvSpPr>
          <p:spPr>
            <a:xfrm>
              <a:off x="6680160" y="4849920"/>
              <a:ext cx="15886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82640"/>
                  <a:tab algn="l" pos="1565280"/>
                  <a:tab algn="l" pos="2347920"/>
                  <a:tab algn="l" pos="3130560"/>
                  <a:tab algn="l" pos="3913200"/>
                  <a:tab algn="l" pos="4695840"/>
                  <a:tab algn="l" pos="5478480"/>
                  <a:tab algn="l" pos="6261120"/>
                  <a:tab algn="l" pos="7043760"/>
                  <a:tab algn="l" pos="7826400"/>
                  <a:tab algn="l" pos="8609040"/>
                  <a:tab algn="l" pos="9391680"/>
                  <a:tab algn="l" pos="10174320"/>
                  <a:tab algn="l" pos="109569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故障异常显示及报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图片 2" descr=""/>
          <p:cNvPicPr/>
          <p:nvPr/>
        </p:nvPicPr>
        <p:blipFill>
          <a:blip r:embed="rId5"/>
          <a:stretch/>
        </p:blipFill>
        <p:spPr>
          <a:xfrm>
            <a:off x="905040" y="1674720"/>
            <a:ext cx="4530600" cy="7793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8"/>
          <p:cNvSpPr/>
          <p:nvPr/>
        </p:nvSpPr>
        <p:spPr>
          <a:xfrm>
            <a:off x="2930400" y="239760"/>
            <a:ext cx="6645240" cy="1176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建筑一体化光伏系统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3" descr=""/>
          <p:cNvPicPr/>
          <p:nvPr/>
        </p:nvPicPr>
        <p:blipFill>
          <a:blip r:embed="rId1"/>
          <a:stretch/>
        </p:blipFill>
        <p:spPr>
          <a:xfrm>
            <a:off x="979560" y="1771560"/>
            <a:ext cx="4097160" cy="709308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3"/>
          <p:cNvGrpSpPr/>
          <p:nvPr/>
        </p:nvGrpSpPr>
        <p:grpSpPr>
          <a:xfrm>
            <a:off x="6232680" y="1511280"/>
            <a:ext cx="2242800" cy="669960"/>
            <a:chOff x="6232680" y="1511280"/>
            <a:chExt cx="2242800" cy="669960"/>
          </a:xfrm>
        </p:grpSpPr>
        <p:pic>
          <p:nvPicPr>
            <p:cNvPr id="269" name="矩形 4" descr=""/>
            <p:cNvPicPr/>
            <p:nvPr/>
          </p:nvPicPr>
          <p:blipFill>
            <a:blip r:embed="rId2"/>
            <a:stretch/>
          </p:blipFill>
          <p:spPr>
            <a:xfrm>
              <a:off x="6232680" y="1511280"/>
              <a:ext cx="22428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5"/>
            <p:cNvSpPr/>
            <p:nvPr/>
          </p:nvSpPr>
          <p:spPr>
            <a:xfrm>
              <a:off x="6629040" y="1513080"/>
              <a:ext cx="145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82640"/>
                  <a:tab algn="l" pos="1565280"/>
                  <a:tab algn="l" pos="2347920"/>
                  <a:tab algn="l" pos="3130560"/>
                  <a:tab algn="l" pos="3913200"/>
                  <a:tab algn="l" pos="4695840"/>
                  <a:tab algn="l" pos="5478480"/>
                  <a:tab algn="l" pos="6261120"/>
                  <a:tab algn="l" pos="7043760"/>
                  <a:tab algn="l" pos="7826400"/>
                  <a:tab algn="l" pos="8609040"/>
                  <a:tab algn="l" pos="9391680"/>
                  <a:tab algn="l" pos="10174320"/>
                  <a:tab algn="l" pos="109569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事件记录监测界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太阳形 5"/>
          <p:cNvSpPr/>
          <p:nvPr/>
        </p:nvSpPr>
        <p:spPr>
          <a:xfrm>
            <a:off x="6010200" y="2243160"/>
            <a:ext cx="225360" cy="266760"/>
          </a:xfrm>
          <a:prstGeom prst="sun">
            <a:avLst>
              <a:gd name="adj" fmla="val 25000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7"/>
          <p:cNvGrpSpPr/>
          <p:nvPr/>
        </p:nvGrpSpPr>
        <p:grpSpPr>
          <a:xfrm>
            <a:off x="6232680" y="2057400"/>
            <a:ext cx="3195000" cy="680760"/>
            <a:chOff x="6232680" y="2057400"/>
            <a:chExt cx="3195000" cy="680760"/>
          </a:xfrm>
        </p:grpSpPr>
        <p:pic>
          <p:nvPicPr>
            <p:cNvPr id="273" name="矩形 6" descr=""/>
            <p:cNvPicPr/>
            <p:nvPr/>
          </p:nvPicPr>
          <p:blipFill>
            <a:blip r:embed="rId3"/>
            <a:stretch/>
          </p:blipFill>
          <p:spPr>
            <a:xfrm>
              <a:off x="6232680" y="2057400"/>
              <a:ext cx="31950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9"/>
            <p:cNvSpPr/>
            <p:nvPr/>
          </p:nvSpPr>
          <p:spPr>
            <a:xfrm>
              <a:off x="6832440" y="2059200"/>
              <a:ext cx="200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82640"/>
                  <a:tab algn="l" pos="1565280"/>
                  <a:tab algn="l" pos="2347920"/>
                  <a:tab algn="l" pos="3130560"/>
                  <a:tab algn="l" pos="3913200"/>
                  <a:tab algn="l" pos="4695840"/>
                  <a:tab algn="l" pos="5478480"/>
                  <a:tab algn="l" pos="6261120"/>
                  <a:tab algn="l" pos="7043760"/>
                  <a:tab algn="l" pos="7826400"/>
                  <a:tab algn="l" pos="8609040"/>
                  <a:tab algn="l" pos="9391680"/>
                  <a:tab algn="l" pos="10174320"/>
                  <a:tab algn="l" pos="109569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对发电现场的事件进行记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直角上箭头 7"/>
          <p:cNvSpPr/>
          <p:nvPr/>
        </p:nvSpPr>
        <p:spPr>
          <a:xfrm rot="5400000">
            <a:off x="6659280" y="2733840"/>
            <a:ext cx="693720" cy="703080"/>
          </a:xfrm>
          <a:custGeom>
            <a:avLst/>
            <a:gdLst/>
            <a:ahLst/>
            <a:rect l="l" t="t" r="r" b="b"/>
            <a:pathLst>
              <a:path w="669925" h="527050">
                <a:moveTo>
                  <a:pt x="0" y="511239"/>
                </a:moveTo>
                <a:lnTo>
                  <a:pt x="631229" y="511239"/>
                </a:lnTo>
                <a:lnTo>
                  <a:pt x="631229" y="48420"/>
                </a:lnTo>
                <a:lnTo>
                  <a:pt x="608344" y="48420"/>
                </a:lnTo>
                <a:lnTo>
                  <a:pt x="639135" y="0"/>
                </a:lnTo>
                <a:lnTo>
                  <a:pt x="669925" y="48420"/>
                </a:lnTo>
                <a:lnTo>
                  <a:pt x="647040" y="48420"/>
                </a:lnTo>
                <a:lnTo>
                  <a:pt x="647040" y="527050"/>
                </a:lnTo>
                <a:lnTo>
                  <a:pt x="0" y="527050"/>
                </a:lnTo>
                <a:lnTo>
                  <a:pt x="0" y="511239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角上箭头 8"/>
          <p:cNvSpPr/>
          <p:nvPr/>
        </p:nvSpPr>
        <p:spPr>
          <a:xfrm rot="5400000">
            <a:off x="6660000" y="3293280"/>
            <a:ext cx="692280" cy="703080"/>
          </a:xfrm>
          <a:custGeom>
            <a:avLst/>
            <a:gdLst/>
            <a:ahLst/>
            <a:rect l="l" t="t" r="r" b="b"/>
            <a:pathLst>
              <a:path w="668338" h="527050">
                <a:moveTo>
                  <a:pt x="0" y="511239"/>
                </a:moveTo>
                <a:lnTo>
                  <a:pt x="629642" y="511239"/>
                </a:lnTo>
                <a:lnTo>
                  <a:pt x="629642" y="48420"/>
                </a:lnTo>
                <a:lnTo>
                  <a:pt x="606757" y="48420"/>
                </a:lnTo>
                <a:lnTo>
                  <a:pt x="637548" y="0"/>
                </a:lnTo>
                <a:lnTo>
                  <a:pt x="668338" y="48420"/>
                </a:lnTo>
                <a:lnTo>
                  <a:pt x="645453" y="48420"/>
                </a:lnTo>
                <a:lnTo>
                  <a:pt x="645453" y="527050"/>
                </a:lnTo>
                <a:lnTo>
                  <a:pt x="0" y="527050"/>
                </a:lnTo>
                <a:lnTo>
                  <a:pt x="0" y="511239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角上箭头 9"/>
          <p:cNvSpPr/>
          <p:nvPr/>
        </p:nvSpPr>
        <p:spPr>
          <a:xfrm rot="5400000">
            <a:off x="6832800" y="2416680"/>
            <a:ext cx="347760" cy="701640"/>
          </a:xfrm>
          <a:custGeom>
            <a:avLst/>
            <a:gdLst/>
            <a:ahLst/>
            <a:rect l="l" t="t" r="r" b="b"/>
            <a:pathLst>
              <a:path w="334963" h="527050">
                <a:moveTo>
                  <a:pt x="0" y="509856"/>
                </a:moveTo>
                <a:lnTo>
                  <a:pt x="293701" y="509856"/>
                </a:lnTo>
                <a:lnTo>
                  <a:pt x="293701" y="49826"/>
                </a:lnTo>
                <a:lnTo>
                  <a:pt x="269632" y="49826"/>
                </a:lnTo>
                <a:lnTo>
                  <a:pt x="302297" y="0"/>
                </a:lnTo>
                <a:lnTo>
                  <a:pt x="334963" y="49826"/>
                </a:lnTo>
                <a:lnTo>
                  <a:pt x="310894" y="49826"/>
                </a:lnTo>
                <a:lnTo>
                  <a:pt x="310894" y="527050"/>
                </a:lnTo>
                <a:lnTo>
                  <a:pt x="0" y="527050"/>
                </a:lnTo>
                <a:lnTo>
                  <a:pt x="0" y="50985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太阳形 10"/>
          <p:cNvSpPr/>
          <p:nvPr/>
        </p:nvSpPr>
        <p:spPr>
          <a:xfrm>
            <a:off x="6010200" y="4486320"/>
            <a:ext cx="225360" cy="264960"/>
          </a:xfrm>
          <a:prstGeom prst="sun">
            <a:avLst>
              <a:gd name="adj" fmla="val 25000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4"/>
          <p:cNvGrpSpPr/>
          <p:nvPr/>
        </p:nvGrpSpPr>
        <p:grpSpPr>
          <a:xfrm>
            <a:off x="7118280" y="2543040"/>
            <a:ext cx="1595160" cy="609480"/>
            <a:chOff x="7118280" y="2543040"/>
            <a:chExt cx="1595160" cy="609480"/>
          </a:xfrm>
        </p:grpSpPr>
        <p:pic>
          <p:nvPicPr>
            <p:cNvPr id="280" name="矩形 11" descr=""/>
            <p:cNvPicPr/>
            <p:nvPr/>
          </p:nvPicPr>
          <p:blipFill>
            <a:blip r:embed="rId4"/>
            <a:stretch/>
          </p:blipFill>
          <p:spPr>
            <a:xfrm>
              <a:off x="7118280" y="2543040"/>
              <a:ext cx="15951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6"/>
            <p:cNvSpPr/>
            <p:nvPr/>
          </p:nvSpPr>
          <p:spPr>
            <a:xfrm>
              <a:off x="7372800" y="2543040"/>
              <a:ext cx="108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82640"/>
                  <a:tab algn="l" pos="1565280"/>
                  <a:tab algn="l" pos="2347920"/>
                  <a:tab algn="l" pos="3130560"/>
                  <a:tab algn="l" pos="3913200"/>
                  <a:tab algn="l" pos="4695840"/>
                  <a:tab algn="l" pos="5478480"/>
                  <a:tab algn="l" pos="6261120"/>
                  <a:tab algn="l" pos="7043760"/>
                  <a:tab algn="l" pos="7826400"/>
                  <a:tab algn="l" pos="8609040"/>
                  <a:tab algn="l" pos="9391680"/>
                  <a:tab algn="l" pos="10174320"/>
                  <a:tab algn="l" pos="109569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</a:t>
              </a:r>
              <a:r>
                <a:rPr b="1" lang="zh-CN" sz="1600" spc="-1" strike="noStrike">
                  <a:solidFill>
                    <a:srgbClr val="660066"/>
                  </a:solidFill>
                  <a:latin typeface="Arial"/>
                  <a:ea typeface="微软雅黑"/>
                </a:rPr>
                <a:t>通讯采集异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矩形 12"/>
          <p:cNvSpPr/>
          <p:nvPr/>
        </p:nvSpPr>
        <p:spPr>
          <a:xfrm>
            <a:off x="7467480" y="3114720"/>
            <a:ext cx="66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zh-CN" sz="1600" spc="-1" strike="noStrike">
                <a:solidFill>
                  <a:srgbClr val="660066"/>
                </a:solidFill>
                <a:latin typeface="Arial"/>
                <a:ea typeface="微软雅黑"/>
              </a:rPr>
              <a:t>开关变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3"/>
          <p:cNvSpPr/>
          <p:nvPr/>
        </p:nvSpPr>
        <p:spPr>
          <a:xfrm>
            <a:off x="7467480" y="3754440"/>
            <a:ext cx="66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zh-CN" sz="1600" spc="-1" strike="noStrike">
                <a:solidFill>
                  <a:srgbClr val="660066"/>
                </a:solidFill>
                <a:latin typeface="Arial"/>
                <a:ea typeface="微软雅黑"/>
              </a:rPr>
              <a:t>操作记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9"/>
          <p:cNvGrpSpPr/>
          <p:nvPr/>
        </p:nvGrpSpPr>
        <p:grpSpPr>
          <a:xfrm>
            <a:off x="6232680" y="4275000"/>
            <a:ext cx="2714040" cy="674640"/>
            <a:chOff x="6232680" y="4275000"/>
            <a:chExt cx="2714040" cy="674640"/>
          </a:xfrm>
        </p:grpSpPr>
        <p:pic>
          <p:nvPicPr>
            <p:cNvPr id="285" name="矩形 14" descr=""/>
            <p:cNvPicPr/>
            <p:nvPr/>
          </p:nvPicPr>
          <p:blipFill>
            <a:blip r:embed="rId5"/>
            <a:stretch/>
          </p:blipFill>
          <p:spPr>
            <a:xfrm>
              <a:off x="6232680" y="4276800"/>
              <a:ext cx="27140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21"/>
            <p:cNvSpPr/>
            <p:nvPr/>
          </p:nvSpPr>
          <p:spPr>
            <a:xfrm>
              <a:off x="6729840" y="4275000"/>
              <a:ext cx="1725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82640"/>
                  <a:tab algn="l" pos="1565280"/>
                  <a:tab algn="l" pos="2347920"/>
                  <a:tab algn="l" pos="3130560"/>
                  <a:tab algn="l" pos="3913200"/>
                  <a:tab algn="l" pos="4695840"/>
                  <a:tab algn="l" pos="5478480"/>
                  <a:tab algn="l" pos="6261120"/>
                  <a:tab algn="l" pos="7043760"/>
                  <a:tab algn="l" pos="7826400"/>
                  <a:tab algn="l" pos="8609040"/>
                  <a:tab algn="l" pos="9391680"/>
                  <a:tab algn="l" pos="10174320"/>
                  <a:tab algn="l" pos="109569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时间记录可按类型查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太阳形 15"/>
          <p:cNvSpPr/>
          <p:nvPr/>
        </p:nvSpPr>
        <p:spPr>
          <a:xfrm>
            <a:off x="6010200" y="5227560"/>
            <a:ext cx="225360" cy="265320"/>
          </a:xfrm>
          <a:prstGeom prst="sun">
            <a:avLst>
              <a:gd name="adj" fmla="val 25000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23"/>
          <p:cNvGrpSpPr/>
          <p:nvPr/>
        </p:nvGrpSpPr>
        <p:grpSpPr>
          <a:xfrm>
            <a:off x="6232680" y="5013360"/>
            <a:ext cx="2242800" cy="675720"/>
            <a:chOff x="6232680" y="5013360"/>
            <a:chExt cx="2242800" cy="675720"/>
          </a:xfrm>
        </p:grpSpPr>
        <p:pic>
          <p:nvPicPr>
            <p:cNvPr id="289" name="矩形 16" descr=""/>
            <p:cNvPicPr/>
            <p:nvPr/>
          </p:nvPicPr>
          <p:blipFill>
            <a:blip r:embed="rId6"/>
            <a:stretch/>
          </p:blipFill>
          <p:spPr>
            <a:xfrm>
              <a:off x="6232680" y="5015160"/>
              <a:ext cx="2242800" cy="6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25"/>
            <p:cNvSpPr/>
            <p:nvPr/>
          </p:nvSpPr>
          <p:spPr>
            <a:xfrm>
              <a:off x="6629040" y="5013360"/>
              <a:ext cx="145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782640"/>
                  <a:tab algn="l" pos="1565280"/>
                  <a:tab algn="l" pos="2347920"/>
                  <a:tab algn="l" pos="3130560"/>
                  <a:tab algn="l" pos="3913200"/>
                  <a:tab algn="l" pos="4695840"/>
                  <a:tab algn="l" pos="5478480"/>
                  <a:tab algn="l" pos="6261120"/>
                  <a:tab algn="l" pos="7043760"/>
                  <a:tab algn="l" pos="7826400"/>
                  <a:tab algn="l" pos="8609040"/>
                  <a:tab algn="l" pos="9391680"/>
                  <a:tab algn="l" pos="10174320"/>
                  <a:tab algn="l" pos="109569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设置更改越限报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矩形 8"/>
          <p:cNvSpPr/>
          <p:nvPr/>
        </p:nvSpPr>
        <p:spPr>
          <a:xfrm>
            <a:off x="2930400" y="239760"/>
            <a:ext cx="6645240" cy="1176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建筑一体化光伏系统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96"/>
          <p:cNvSpPr/>
          <p:nvPr/>
        </p:nvSpPr>
        <p:spPr>
          <a:xfrm>
            <a:off x="2502000" y="239760"/>
            <a:ext cx="7119720" cy="137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建筑一体化光伏系统监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792000" y="1295280"/>
            <a:ext cx="89424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2928960" y="239760"/>
            <a:ext cx="664668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1727280" y="1224000"/>
            <a:ext cx="6261120" cy="1294920"/>
            <a:chOff x="1727280" y="1224000"/>
            <a:chExt cx="6261120" cy="1294920"/>
          </a:xfrm>
        </p:grpSpPr>
        <p:pic>
          <p:nvPicPr>
            <p:cNvPr id="89" name="AutoShape 864" descr=""/>
            <p:cNvPicPr/>
            <p:nvPr/>
          </p:nvPicPr>
          <p:blipFill>
            <a:blip r:embed="rId1"/>
            <a:stretch/>
          </p:blipFill>
          <p:spPr>
            <a:xfrm>
              <a:off x="1727280" y="1224000"/>
              <a:ext cx="6261120" cy="12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4"/>
            <p:cNvSpPr/>
            <p:nvPr/>
          </p:nvSpPr>
          <p:spPr>
            <a:xfrm>
              <a:off x="1925640" y="1440000"/>
              <a:ext cx="5699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49" descr="그림자"/>
          <p:cNvPicPr/>
          <p:nvPr/>
        </p:nvPicPr>
        <p:blipFill>
          <a:blip r:embed="rId2"/>
          <a:stretch/>
        </p:blipFill>
        <p:spPr>
          <a:xfrm>
            <a:off x="2448000" y="1222200"/>
            <a:ext cx="5143320" cy="93204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0"/>
          <p:cNvSpPr/>
          <p:nvPr/>
        </p:nvSpPr>
        <p:spPr>
          <a:xfrm>
            <a:off x="2592360" y="1440000"/>
            <a:ext cx="493704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APF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的应用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7"/>
          <p:cNvSpPr/>
          <p:nvPr/>
        </p:nvSpPr>
        <p:spPr>
          <a:xfrm>
            <a:off x="2016000" y="1366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1727280" y="2303640"/>
            <a:ext cx="6261120" cy="1335960"/>
            <a:chOff x="1727280" y="2303640"/>
            <a:chExt cx="6261120" cy="1335960"/>
          </a:xfrm>
        </p:grpSpPr>
        <p:pic>
          <p:nvPicPr>
            <p:cNvPr id="95" name="AutoShape 864" descr=""/>
            <p:cNvPicPr/>
            <p:nvPr/>
          </p:nvPicPr>
          <p:blipFill>
            <a:blip r:embed="rId3"/>
            <a:stretch/>
          </p:blipFill>
          <p:spPr>
            <a:xfrm>
              <a:off x="1727280" y="2303640"/>
              <a:ext cx="6261120" cy="133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1"/>
            <p:cNvSpPr/>
            <p:nvPr/>
          </p:nvSpPr>
          <p:spPr>
            <a:xfrm>
              <a:off x="1925640" y="2525040"/>
              <a:ext cx="56991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9" descr="그림자"/>
          <p:cNvPicPr/>
          <p:nvPr/>
        </p:nvPicPr>
        <p:blipFill>
          <a:blip r:embed="rId4"/>
          <a:stretch/>
        </p:blipFill>
        <p:spPr>
          <a:xfrm>
            <a:off x="2448000" y="2448000"/>
            <a:ext cx="5143320" cy="9316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3"/>
          <p:cNvSpPr/>
          <p:nvPr/>
        </p:nvSpPr>
        <p:spPr>
          <a:xfrm>
            <a:off x="2089800" y="2519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0"/>
          <p:cNvSpPr/>
          <p:nvPr/>
        </p:nvSpPr>
        <p:spPr>
          <a:xfrm>
            <a:off x="2664000" y="2590920"/>
            <a:ext cx="4962240" cy="55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安科瑞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APF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产品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5"/>
          <p:cNvGrpSpPr/>
          <p:nvPr/>
        </p:nvGrpSpPr>
        <p:grpSpPr>
          <a:xfrm>
            <a:off x="1727280" y="1085760"/>
            <a:ext cx="6261120" cy="1295280"/>
            <a:chOff x="1727280" y="1085760"/>
            <a:chExt cx="6261120" cy="1295280"/>
          </a:xfrm>
        </p:grpSpPr>
        <p:pic>
          <p:nvPicPr>
            <p:cNvPr id="101" name="AutoShape 864" descr=""/>
            <p:cNvPicPr/>
            <p:nvPr/>
          </p:nvPicPr>
          <p:blipFill>
            <a:blip r:embed="rId5"/>
            <a:stretch/>
          </p:blipFill>
          <p:spPr>
            <a:xfrm>
              <a:off x="1727280" y="1085760"/>
              <a:ext cx="62611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925640" y="1301760"/>
              <a:ext cx="569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49" descr="그림자"/>
          <p:cNvPicPr/>
          <p:nvPr/>
        </p:nvPicPr>
        <p:blipFill>
          <a:blip r:embed="rId6"/>
          <a:stretch/>
        </p:blipFill>
        <p:spPr>
          <a:xfrm>
            <a:off x="2448000" y="1084320"/>
            <a:ext cx="5143320" cy="9316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0"/>
          <p:cNvSpPr/>
          <p:nvPr/>
        </p:nvSpPr>
        <p:spPr>
          <a:xfrm>
            <a:off x="2592360" y="1301760"/>
            <a:ext cx="493704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建筑一体化光伏发电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7"/>
          <p:cNvSpPr/>
          <p:nvPr/>
        </p:nvSpPr>
        <p:spPr>
          <a:xfrm>
            <a:off x="2016000" y="12286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1"/>
          <p:cNvGrpSpPr/>
          <p:nvPr/>
        </p:nvGrpSpPr>
        <p:grpSpPr>
          <a:xfrm>
            <a:off x="1727280" y="2165400"/>
            <a:ext cx="6261120" cy="1336320"/>
            <a:chOff x="1727280" y="2165400"/>
            <a:chExt cx="6261120" cy="1336320"/>
          </a:xfrm>
        </p:grpSpPr>
        <p:pic>
          <p:nvPicPr>
            <p:cNvPr id="107" name="AutoShape 864" descr=""/>
            <p:cNvPicPr/>
            <p:nvPr/>
          </p:nvPicPr>
          <p:blipFill>
            <a:blip r:embed="rId7"/>
            <a:stretch/>
          </p:blipFill>
          <p:spPr>
            <a:xfrm>
              <a:off x="1727280" y="2165400"/>
              <a:ext cx="6261120" cy="13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1"/>
            <p:cNvSpPr/>
            <p:nvPr/>
          </p:nvSpPr>
          <p:spPr>
            <a:xfrm>
              <a:off x="1925640" y="2386800"/>
              <a:ext cx="569916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49" descr="그림자"/>
          <p:cNvPicPr/>
          <p:nvPr/>
        </p:nvPicPr>
        <p:blipFill>
          <a:blip r:embed="rId8"/>
          <a:stretch/>
        </p:blipFill>
        <p:spPr>
          <a:xfrm>
            <a:off x="2448000" y="2309760"/>
            <a:ext cx="5143320" cy="932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3"/>
          <p:cNvSpPr/>
          <p:nvPr/>
        </p:nvSpPr>
        <p:spPr>
          <a:xfrm>
            <a:off x="2089800" y="238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0"/>
          <p:cNvSpPr/>
          <p:nvPr/>
        </p:nvSpPr>
        <p:spPr>
          <a:xfrm>
            <a:off x="2664000" y="2452680"/>
            <a:ext cx="4962240" cy="55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建筑一体化光伏系统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727280" y="3379680"/>
            <a:ext cx="6261120" cy="1295280"/>
            <a:chOff x="1727280" y="3379680"/>
            <a:chExt cx="6261120" cy="1295280"/>
          </a:xfrm>
        </p:grpSpPr>
        <p:pic>
          <p:nvPicPr>
            <p:cNvPr id="113" name="AutoShape 864" descr=""/>
            <p:cNvPicPr/>
            <p:nvPr/>
          </p:nvPicPr>
          <p:blipFill>
            <a:blip r:embed="rId9"/>
            <a:stretch/>
          </p:blipFill>
          <p:spPr>
            <a:xfrm>
              <a:off x="1727280" y="3379680"/>
              <a:ext cx="62611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4"/>
            <p:cNvSpPr/>
            <p:nvPr/>
          </p:nvSpPr>
          <p:spPr>
            <a:xfrm>
              <a:off x="1925640" y="3595680"/>
              <a:ext cx="569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49" descr="그림자"/>
          <p:cNvPicPr/>
          <p:nvPr/>
        </p:nvPicPr>
        <p:blipFill>
          <a:blip r:embed="rId10"/>
          <a:stretch/>
        </p:blipFill>
        <p:spPr>
          <a:xfrm>
            <a:off x="2448000" y="3378240"/>
            <a:ext cx="5143320" cy="93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0"/>
          <p:cNvSpPr/>
          <p:nvPr/>
        </p:nvSpPr>
        <p:spPr>
          <a:xfrm>
            <a:off x="2592360" y="3595680"/>
            <a:ext cx="493704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APF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的应用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2016000" y="35226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33"/>
          <p:cNvGrpSpPr/>
          <p:nvPr/>
        </p:nvGrpSpPr>
        <p:grpSpPr>
          <a:xfrm>
            <a:off x="1727280" y="4459320"/>
            <a:ext cx="6261120" cy="1336320"/>
            <a:chOff x="1727280" y="4459320"/>
            <a:chExt cx="6261120" cy="1336320"/>
          </a:xfrm>
        </p:grpSpPr>
        <p:pic>
          <p:nvPicPr>
            <p:cNvPr id="119" name="AutoShape 864" descr=""/>
            <p:cNvPicPr/>
            <p:nvPr/>
          </p:nvPicPr>
          <p:blipFill>
            <a:blip r:embed="rId11"/>
            <a:stretch/>
          </p:blipFill>
          <p:spPr>
            <a:xfrm>
              <a:off x="1727280" y="4459320"/>
              <a:ext cx="6261120" cy="13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1925640" y="4680720"/>
              <a:ext cx="569916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49" descr="그림자"/>
          <p:cNvPicPr/>
          <p:nvPr/>
        </p:nvPicPr>
        <p:blipFill>
          <a:blip r:embed="rId12"/>
          <a:stretch/>
        </p:blipFill>
        <p:spPr>
          <a:xfrm>
            <a:off x="2448000" y="4603680"/>
            <a:ext cx="5143320" cy="932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3"/>
          <p:cNvSpPr/>
          <p:nvPr/>
        </p:nvSpPr>
        <p:spPr>
          <a:xfrm>
            <a:off x="2089800" y="46753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0"/>
          <p:cNvSpPr/>
          <p:nvPr/>
        </p:nvSpPr>
        <p:spPr>
          <a:xfrm>
            <a:off x="2664000" y="4746600"/>
            <a:ext cx="4962240" cy="55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安科瑞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APF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产品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9"/>
          <p:cNvGrpSpPr/>
          <p:nvPr/>
        </p:nvGrpSpPr>
        <p:grpSpPr>
          <a:xfrm>
            <a:off x="1727280" y="3241800"/>
            <a:ext cx="6261120" cy="1294920"/>
            <a:chOff x="1727280" y="3241800"/>
            <a:chExt cx="6261120" cy="1294920"/>
          </a:xfrm>
        </p:grpSpPr>
        <p:pic>
          <p:nvPicPr>
            <p:cNvPr id="125" name="AutoShape 864" descr=""/>
            <p:cNvPicPr/>
            <p:nvPr/>
          </p:nvPicPr>
          <p:blipFill>
            <a:blip r:embed="rId13"/>
            <a:stretch/>
          </p:blipFill>
          <p:spPr>
            <a:xfrm>
              <a:off x="1727280" y="3241800"/>
              <a:ext cx="6261120" cy="12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4"/>
            <p:cNvSpPr/>
            <p:nvPr/>
          </p:nvSpPr>
          <p:spPr>
            <a:xfrm>
              <a:off x="1925640" y="3457800"/>
              <a:ext cx="5699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49" descr="그림자"/>
          <p:cNvPicPr/>
          <p:nvPr/>
        </p:nvPicPr>
        <p:blipFill>
          <a:blip r:embed="rId14"/>
          <a:stretch/>
        </p:blipFill>
        <p:spPr>
          <a:xfrm>
            <a:off x="2448000" y="3240000"/>
            <a:ext cx="5143320" cy="9320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0"/>
          <p:cNvSpPr/>
          <p:nvPr/>
        </p:nvSpPr>
        <p:spPr>
          <a:xfrm>
            <a:off x="2592360" y="3457440"/>
            <a:ext cx="4937040" cy="64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建筑一体化光伏系统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7"/>
          <p:cNvSpPr/>
          <p:nvPr/>
        </p:nvSpPr>
        <p:spPr>
          <a:xfrm>
            <a:off x="2016000" y="3384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5"/>
          <p:cNvGrpSpPr/>
          <p:nvPr/>
        </p:nvGrpSpPr>
        <p:grpSpPr>
          <a:xfrm>
            <a:off x="1727280" y="4321080"/>
            <a:ext cx="6261120" cy="1336320"/>
            <a:chOff x="1727280" y="4321080"/>
            <a:chExt cx="6261120" cy="1336320"/>
          </a:xfrm>
        </p:grpSpPr>
        <p:pic>
          <p:nvPicPr>
            <p:cNvPr id="131" name="AutoShape 864" descr=""/>
            <p:cNvPicPr/>
            <p:nvPr/>
          </p:nvPicPr>
          <p:blipFill>
            <a:blip r:embed="rId15"/>
            <a:stretch/>
          </p:blipFill>
          <p:spPr>
            <a:xfrm>
              <a:off x="1727280" y="4321080"/>
              <a:ext cx="6261120" cy="13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1"/>
            <p:cNvSpPr/>
            <p:nvPr/>
          </p:nvSpPr>
          <p:spPr>
            <a:xfrm>
              <a:off x="1925640" y="4542480"/>
              <a:ext cx="569916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49" descr="그림자"/>
          <p:cNvPicPr/>
          <p:nvPr/>
        </p:nvPicPr>
        <p:blipFill>
          <a:blip r:embed="rId16"/>
          <a:stretch/>
        </p:blipFill>
        <p:spPr>
          <a:xfrm>
            <a:off x="2448000" y="4465800"/>
            <a:ext cx="5143320" cy="9316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3"/>
          <p:cNvSpPr/>
          <p:nvPr/>
        </p:nvSpPr>
        <p:spPr>
          <a:xfrm>
            <a:off x="2089800" y="4537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0"/>
          <p:cNvSpPr/>
          <p:nvPr/>
        </p:nvSpPr>
        <p:spPr>
          <a:xfrm>
            <a:off x="2664000" y="4608360"/>
            <a:ext cx="4962240" cy="55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建筑一体化光伏系统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3"/>
          <p:cNvSpPr/>
          <p:nvPr/>
        </p:nvSpPr>
        <p:spPr>
          <a:xfrm>
            <a:off x="2090520" y="58276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3"/>
          <p:cNvSpPr/>
          <p:nvPr/>
        </p:nvSpPr>
        <p:spPr>
          <a:xfrm>
            <a:off x="2090520" y="5689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3"/>
          <p:cNvGrpSpPr/>
          <p:nvPr/>
        </p:nvGrpSpPr>
        <p:grpSpPr>
          <a:xfrm>
            <a:off x="1725480" y="5610240"/>
            <a:ext cx="6261120" cy="1336320"/>
            <a:chOff x="1725480" y="5610240"/>
            <a:chExt cx="6261120" cy="1336320"/>
          </a:xfrm>
        </p:grpSpPr>
        <p:pic>
          <p:nvPicPr>
            <p:cNvPr id="139" name="AutoShape 864" descr=""/>
            <p:cNvPicPr/>
            <p:nvPr/>
          </p:nvPicPr>
          <p:blipFill>
            <a:blip r:embed="rId17"/>
            <a:stretch/>
          </p:blipFill>
          <p:spPr>
            <a:xfrm>
              <a:off x="1725480" y="5610240"/>
              <a:ext cx="6261120" cy="13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1"/>
            <p:cNvSpPr/>
            <p:nvPr/>
          </p:nvSpPr>
          <p:spPr>
            <a:xfrm>
              <a:off x="1923840" y="5831640"/>
              <a:ext cx="569916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49" descr="그림자"/>
          <p:cNvPicPr/>
          <p:nvPr/>
        </p:nvPicPr>
        <p:blipFill>
          <a:blip r:embed="rId18"/>
          <a:stretch/>
        </p:blipFill>
        <p:spPr>
          <a:xfrm>
            <a:off x="2446200" y="5754600"/>
            <a:ext cx="5143680" cy="9320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3"/>
          <p:cNvSpPr/>
          <p:nvPr/>
        </p:nvSpPr>
        <p:spPr>
          <a:xfrm>
            <a:off x="2088000" y="58262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0"/>
          <p:cNvSpPr/>
          <p:nvPr/>
        </p:nvSpPr>
        <p:spPr>
          <a:xfrm>
            <a:off x="2662200" y="5897520"/>
            <a:ext cx="4962600" cy="55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安科瑞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APF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产品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9"/>
          <p:cNvGrpSpPr/>
          <p:nvPr/>
        </p:nvGrpSpPr>
        <p:grpSpPr>
          <a:xfrm>
            <a:off x="1725480" y="5472000"/>
            <a:ext cx="6261120" cy="1336320"/>
            <a:chOff x="1725480" y="5472000"/>
            <a:chExt cx="6261120" cy="1336320"/>
          </a:xfrm>
        </p:grpSpPr>
        <p:pic>
          <p:nvPicPr>
            <p:cNvPr id="145" name="AutoShape 864" descr=""/>
            <p:cNvPicPr/>
            <p:nvPr/>
          </p:nvPicPr>
          <p:blipFill>
            <a:blip r:embed="rId19"/>
            <a:stretch/>
          </p:blipFill>
          <p:spPr>
            <a:xfrm>
              <a:off x="1725480" y="5472000"/>
              <a:ext cx="6261120" cy="13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11"/>
            <p:cNvSpPr/>
            <p:nvPr/>
          </p:nvSpPr>
          <p:spPr>
            <a:xfrm>
              <a:off x="1923840" y="5693400"/>
              <a:ext cx="569916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49" descr="그림자"/>
          <p:cNvPicPr/>
          <p:nvPr/>
        </p:nvPicPr>
        <p:blipFill>
          <a:blip r:embed="rId20"/>
          <a:stretch/>
        </p:blipFill>
        <p:spPr>
          <a:xfrm>
            <a:off x="2448000" y="5616720"/>
            <a:ext cx="5113440" cy="9316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3"/>
          <p:cNvSpPr/>
          <p:nvPr/>
        </p:nvSpPr>
        <p:spPr>
          <a:xfrm>
            <a:off x="2088000" y="5688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0"/>
          <p:cNvSpPr/>
          <p:nvPr/>
        </p:nvSpPr>
        <p:spPr>
          <a:xfrm>
            <a:off x="2662200" y="5759280"/>
            <a:ext cx="4962600" cy="55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建筑一体化光伏销售及招标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96"/>
          <p:cNvSpPr/>
          <p:nvPr/>
        </p:nvSpPr>
        <p:spPr>
          <a:xfrm>
            <a:off x="2502000" y="239760"/>
            <a:ext cx="7119720" cy="137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建筑一体化光伏系统监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27" descr="f20b2ef3.bmp.bmp"/>
          <p:cNvPicPr/>
          <p:nvPr/>
        </p:nvPicPr>
        <p:blipFill>
          <a:blip r:embed="rId1"/>
          <a:stretch/>
        </p:blipFill>
        <p:spPr>
          <a:xfrm>
            <a:off x="1224000" y="1295280"/>
            <a:ext cx="727236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96"/>
          <p:cNvSpPr/>
          <p:nvPr/>
        </p:nvSpPr>
        <p:spPr>
          <a:xfrm>
            <a:off x="2502000" y="239760"/>
            <a:ext cx="7119720" cy="137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建筑一体化光伏系统监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3709520950"/>
          <p:cNvPicPr/>
          <p:nvPr/>
        </p:nvPicPr>
        <p:blipFill>
          <a:blip r:embed="rId1"/>
          <a:stretch/>
        </p:blipFill>
        <p:spPr>
          <a:xfrm>
            <a:off x="1655640" y="1295280"/>
            <a:ext cx="6629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bg3"/>
          <p:cNvPicPr/>
          <p:nvPr/>
        </p:nvPicPr>
        <p:blipFill>
          <a:blip r:embed="rId1"/>
          <a:stretch/>
        </p:blipFill>
        <p:spPr>
          <a:xfrm>
            <a:off x="-33480" y="0"/>
            <a:ext cx="10112400" cy="7227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3"/>
          <p:cNvSpPr/>
          <p:nvPr/>
        </p:nvSpPr>
        <p:spPr>
          <a:xfrm>
            <a:off x="3267000" y="1847880"/>
            <a:ext cx="3202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3280" bIns="5328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海安科瑞电气股份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crel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5"/>
          <p:cNvSpPr txBox="1"/>
          <p:nvPr/>
        </p:nvSpPr>
        <p:spPr>
          <a:xfrm>
            <a:off x="3521160" y="879480"/>
            <a:ext cx="2717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介绍完毕，谢谢！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1" name="WordArt 6"/>
          <p:cNvSpPr txBox="1"/>
          <p:nvPr/>
        </p:nvSpPr>
        <p:spPr>
          <a:xfrm>
            <a:off x="803520" y="1301400"/>
            <a:ext cx="271764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000000">
                        <a:alpha val="18039"/>
                      </a:srgbClr>
                    </a:gs>
                  </a:gsLst>
                  <a:lin ang="5400000"/>
                </a:gradFill>
                <a:latin typeface="黑体"/>
              </a:rPr>
              <a:t>介绍完毕，谢谢！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18039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8"/>
          <p:cNvSpPr/>
          <p:nvPr/>
        </p:nvSpPr>
        <p:spPr>
          <a:xfrm>
            <a:off x="2928960" y="239760"/>
            <a:ext cx="664668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建筑一体化光伏发电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2"/>
          <p:cNvPicPr/>
          <p:nvPr/>
        </p:nvPicPr>
        <p:blipFill>
          <a:blip r:embed="rId1"/>
          <a:stretch/>
        </p:blipFill>
        <p:spPr>
          <a:xfrm>
            <a:off x="647640" y="2879640"/>
            <a:ext cx="5597640" cy="230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3"/>
          <p:cNvPicPr/>
          <p:nvPr/>
        </p:nvPicPr>
        <p:blipFill>
          <a:blip r:embed="rId2"/>
          <a:stretch/>
        </p:blipFill>
        <p:spPr>
          <a:xfrm>
            <a:off x="6553080" y="2952720"/>
            <a:ext cx="2625840" cy="3456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0"/>
          <p:cNvSpPr/>
          <p:nvPr/>
        </p:nvSpPr>
        <p:spPr>
          <a:xfrm>
            <a:off x="1511280" y="5977080"/>
            <a:ext cx="4962600" cy="55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光伏系统与建筑墙体相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0"/>
          <p:cNvSpPr/>
          <p:nvPr/>
        </p:nvSpPr>
        <p:spPr>
          <a:xfrm>
            <a:off x="647640" y="2160720"/>
            <a:ext cx="4962600" cy="55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光伏系统与建筑屋顶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0"/>
          <p:cNvSpPr/>
          <p:nvPr/>
        </p:nvSpPr>
        <p:spPr>
          <a:xfrm>
            <a:off x="647640" y="1224000"/>
            <a:ext cx="4962600" cy="55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光伏系统与建筑相结合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8"/>
          <p:cNvSpPr/>
          <p:nvPr/>
        </p:nvSpPr>
        <p:spPr>
          <a:xfrm>
            <a:off x="2928960" y="239760"/>
            <a:ext cx="664668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建筑一体化光伏发电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0"/>
          <p:cNvSpPr/>
          <p:nvPr/>
        </p:nvSpPr>
        <p:spPr>
          <a:xfrm>
            <a:off x="2232000" y="2448000"/>
            <a:ext cx="4962600" cy="55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绿色清洁能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0"/>
          <p:cNvSpPr/>
          <p:nvPr/>
        </p:nvSpPr>
        <p:spPr>
          <a:xfrm>
            <a:off x="2232000" y="3527280"/>
            <a:ext cx="4962600" cy="560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无需占用宝贵的土地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0"/>
          <p:cNvSpPr/>
          <p:nvPr/>
        </p:nvSpPr>
        <p:spPr>
          <a:xfrm>
            <a:off x="2232000" y="4608360"/>
            <a:ext cx="4962600" cy="55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建筑节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0"/>
          <p:cNvSpPr/>
          <p:nvPr/>
        </p:nvSpPr>
        <p:spPr>
          <a:xfrm>
            <a:off x="576360" y="1297080"/>
            <a:ext cx="7920000" cy="55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ddd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42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伏发电技术和建筑学相结合的光伏建筑一体化有如下优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635040" y="1392120"/>
            <a:ext cx="6420600" cy="1240920"/>
            <a:chOff x="635040" y="1392120"/>
            <a:chExt cx="6420600" cy="1240920"/>
          </a:xfrm>
        </p:grpSpPr>
        <p:pic>
          <p:nvPicPr>
            <p:cNvPr id="162" name="矩形 4" descr=""/>
            <p:cNvPicPr/>
            <p:nvPr/>
          </p:nvPicPr>
          <p:blipFill>
            <a:blip r:embed="rId1"/>
            <a:stretch/>
          </p:blipFill>
          <p:spPr>
            <a:xfrm>
              <a:off x="635040" y="1392120"/>
              <a:ext cx="6420600" cy="124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4"/>
            <p:cNvSpPr/>
            <p:nvPr/>
          </p:nvSpPr>
          <p:spPr>
            <a:xfrm>
              <a:off x="2022480" y="1395360"/>
              <a:ext cx="3650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按接入公共电网方式：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并网光伏系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                                  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独立光伏系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矩形 8"/>
          <p:cNvSpPr/>
          <p:nvPr/>
        </p:nvSpPr>
        <p:spPr>
          <a:xfrm>
            <a:off x="2928960" y="239760"/>
            <a:ext cx="664668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建筑一体化光伏系统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6"/>
          <p:cNvGrpSpPr/>
          <p:nvPr/>
        </p:nvGrpSpPr>
        <p:grpSpPr>
          <a:xfrm>
            <a:off x="635040" y="2927520"/>
            <a:ext cx="6420600" cy="1240560"/>
            <a:chOff x="635040" y="2927520"/>
            <a:chExt cx="6420600" cy="1240560"/>
          </a:xfrm>
        </p:grpSpPr>
        <p:pic>
          <p:nvPicPr>
            <p:cNvPr id="166" name="矩形 4" descr=""/>
            <p:cNvPicPr/>
            <p:nvPr/>
          </p:nvPicPr>
          <p:blipFill>
            <a:blip r:embed="rId2"/>
            <a:stretch/>
          </p:blipFill>
          <p:spPr>
            <a:xfrm>
              <a:off x="635040" y="2927520"/>
              <a:ext cx="6420600" cy="124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8"/>
            <p:cNvSpPr/>
            <p:nvPr/>
          </p:nvSpPr>
          <p:spPr>
            <a:xfrm>
              <a:off x="2022480" y="2930760"/>
              <a:ext cx="3650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按储能装置的形式：   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带储能装置系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                                  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不带储能装置系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"/>
          <p:cNvGrpSpPr/>
          <p:nvPr/>
        </p:nvGrpSpPr>
        <p:grpSpPr>
          <a:xfrm>
            <a:off x="647640" y="4248000"/>
            <a:ext cx="6495120" cy="2096640"/>
            <a:chOff x="647640" y="4248000"/>
            <a:chExt cx="6495120" cy="2096640"/>
          </a:xfrm>
        </p:grpSpPr>
        <p:pic>
          <p:nvPicPr>
            <p:cNvPr id="169" name="矩形 4" descr=""/>
            <p:cNvPicPr/>
            <p:nvPr/>
          </p:nvPicPr>
          <p:blipFill>
            <a:blip r:embed="rId3"/>
            <a:stretch/>
          </p:blipFill>
          <p:spPr>
            <a:xfrm>
              <a:off x="647640" y="4248000"/>
              <a:ext cx="6495120" cy="20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1"/>
            <p:cNvSpPr/>
            <p:nvPr/>
          </p:nvSpPr>
          <p:spPr>
            <a:xfrm>
              <a:off x="2072520" y="4253760"/>
              <a:ext cx="36504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按负荷形式：              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直流系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                                  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交流系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                                  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交直流混合系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8"/>
          <p:cNvSpPr/>
          <p:nvPr/>
        </p:nvSpPr>
        <p:spPr>
          <a:xfrm>
            <a:off x="3397320" y="239760"/>
            <a:ext cx="619596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建筑一体化光伏系统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248760" y="1103400"/>
            <a:ext cx="7197840" cy="1685880"/>
            <a:chOff x="248760" y="1103400"/>
            <a:chExt cx="7197840" cy="1685880"/>
          </a:xfrm>
        </p:grpSpPr>
        <p:pic>
          <p:nvPicPr>
            <p:cNvPr id="173" name="矩形 4" descr=""/>
            <p:cNvPicPr/>
            <p:nvPr/>
          </p:nvPicPr>
          <p:blipFill>
            <a:blip r:embed="rId1"/>
            <a:stretch/>
          </p:blipFill>
          <p:spPr>
            <a:xfrm>
              <a:off x="635040" y="1103400"/>
              <a:ext cx="6420600" cy="124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5"/>
            <p:cNvSpPr/>
            <p:nvPr/>
          </p:nvSpPr>
          <p:spPr>
            <a:xfrm>
              <a:off x="248760" y="1106640"/>
              <a:ext cx="719784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按系统装机容量大小：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小型系统  装机容量小于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kW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                                  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中型系统   装机容量在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kW - 100kW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之间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                                  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大型系统   装机容量大于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00kW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6"/>
          <p:cNvGrpSpPr/>
          <p:nvPr/>
        </p:nvGrpSpPr>
        <p:grpSpPr>
          <a:xfrm>
            <a:off x="560520" y="3024360"/>
            <a:ext cx="6420600" cy="1685880"/>
            <a:chOff x="560520" y="3024360"/>
            <a:chExt cx="6420600" cy="1685880"/>
          </a:xfrm>
        </p:grpSpPr>
        <p:pic>
          <p:nvPicPr>
            <p:cNvPr id="176" name="矩形 4" descr=""/>
            <p:cNvPicPr/>
            <p:nvPr/>
          </p:nvPicPr>
          <p:blipFill>
            <a:blip r:embed="rId2"/>
            <a:stretch/>
          </p:blipFill>
          <p:spPr>
            <a:xfrm>
              <a:off x="560520" y="3024360"/>
              <a:ext cx="6420600" cy="12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8"/>
            <p:cNvSpPr/>
            <p:nvPr/>
          </p:nvSpPr>
          <p:spPr>
            <a:xfrm>
              <a:off x="1947960" y="3027600"/>
              <a:ext cx="36504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按允许通过上级变压器向主电网馈电：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                                  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逆流光伏系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                                  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非逆流光伏系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9"/>
          <p:cNvGrpSpPr/>
          <p:nvPr/>
        </p:nvGrpSpPr>
        <p:grpSpPr>
          <a:xfrm>
            <a:off x="576360" y="4824360"/>
            <a:ext cx="6420600" cy="1685880"/>
            <a:chOff x="576360" y="4824360"/>
            <a:chExt cx="6420600" cy="1685880"/>
          </a:xfrm>
        </p:grpSpPr>
        <p:pic>
          <p:nvPicPr>
            <p:cNvPr id="179" name="矩形 4" descr=""/>
            <p:cNvPicPr/>
            <p:nvPr/>
          </p:nvPicPr>
          <p:blipFill>
            <a:blip r:embed="rId3"/>
            <a:stretch/>
          </p:blipFill>
          <p:spPr>
            <a:xfrm>
              <a:off x="576360" y="4824360"/>
              <a:ext cx="6420600" cy="12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1"/>
            <p:cNvSpPr/>
            <p:nvPr/>
          </p:nvSpPr>
          <p:spPr>
            <a:xfrm>
              <a:off x="1963800" y="4827600"/>
              <a:ext cx="36504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560" rIns="106560" tIns="53280" bIns="532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按在电网中的并网位置：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                                  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集中并网系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                                      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23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分散并网系统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" presetSubtype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8"/>
          <p:cNvSpPr/>
          <p:nvPr/>
        </p:nvSpPr>
        <p:spPr>
          <a:xfrm>
            <a:off x="3324240" y="239760"/>
            <a:ext cx="626904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建筑一体化光伏系统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62080" y="1392120"/>
          <a:ext cx="9556560" cy="5139000"/>
        </p:xfrm>
        <a:graphic>
          <a:graphicData uri="http://schemas.openxmlformats.org/drawingml/2006/table">
            <a:tbl>
              <a:tblPr/>
              <a:tblGrid>
                <a:gridCol w="752400"/>
                <a:gridCol w="1272960"/>
                <a:gridCol w="871560"/>
                <a:gridCol w="1113120"/>
                <a:gridCol w="5546520"/>
              </a:tblGrid>
              <a:tr h="803520">
                <a:tc>
                  <a:txBody>
                    <a:bodyPr lIns="106560" rIns="106560" tIns="53280" b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1" lang="zh-CN" sz="2100" spc="-1" strike="noStrike">
                          <a:solidFill>
                            <a:srgbClr val="ffffff"/>
                          </a:solidFill>
                          <a:latin typeface="Candara"/>
                          <a:ea typeface="华文楷体"/>
                        </a:rPr>
                        <a:t>系统类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1" lang="zh-CN" sz="2100" spc="-1" strike="noStrike">
                          <a:solidFill>
                            <a:srgbClr val="ffffff"/>
                          </a:solidFill>
                          <a:latin typeface="Candara"/>
                          <a:ea typeface="华文楷体"/>
                        </a:rPr>
                        <a:t>电流类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1" lang="zh-CN" sz="2100" spc="-1" strike="noStrike">
                          <a:solidFill>
                            <a:srgbClr val="ffffff"/>
                          </a:solidFill>
                          <a:latin typeface="Candara"/>
                          <a:ea typeface="华文楷体"/>
                        </a:rPr>
                        <a:t>是否逆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1" lang="zh-CN" sz="2100" spc="-1" strike="noStrike">
                          <a:solidFill>
                            <a:srgbClr val="ffffff"/>
                          </a:solidFill>
                          <a:latin typeface="Candara"/>
                          <a:ea typeface="华文楷体"/>
                        </a:rPr>
                        <a:t>有无储能装置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1" lang="zh-CN" sz="2100" spc="-1" strike="noStrike">
                          <a:solidFill>
                            <a:srgbClr val="ffffff"/>
                          </a:solidFill>
                          <a:latin typeface="Candara"/>
                          <a:ea typeface="华文楷体"/>
                        </a:rPr>
                        <a:t>适用范围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426960">
                <a:tc rowSpan="4"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并网光伏系统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  <a:tc rowSpan="4"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交流系统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  <a:tc rowSpan="2"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是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有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发电量大于用电量，且当地电力供应不可靠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f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发电量大于用电量，且当地电力供应比较可靠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否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有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发电量小于用电量，且当地电力供应不可靠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f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ndara"/>
                          <a:ea typeface="华文楷体"/>
                        </a:rPr>
                        <a:t>发电量小于用电量，且当地电力供应比较可靠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f"/>
                    </a:solidFill>
                  </a:tcPr>
                </a:tc>
              </a:tr>
              <a:tr h="657000">
                <a:tc rowSpan="4"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独立光伏系统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  <a:tc rowSpan="2"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直流系统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  <a:tc rowSpan="4"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否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有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偏远无电网地区，电力负荷为直流设备，且供电连续性要求较高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</a:tr>
              <a:tr h="65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f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偏远无电网地区，电力负荷为直流设备，且供电无连续性要求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f"/>
                    </a:solidFill>
                  </a:tcPr>
                </a:tc>
              </a:tr>
              <a:tr h="65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交流系统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有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偏远无电网地区，电力负荷为交流设备，且供电连续性要求较高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5fe"/>
                    </a:solidFill>
                  </a:tcPr>
                </a:tc>
              </a:tr>
              <a:tr h="65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21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f"/>
                    </a:solidFill>
                  </a:tcPr>
                </a:tc>
                <a:tc>
                  <a:txBody>
                    <a:bodyPr lIns="106560" rIns="106560" tIns="53280" bIns="53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6680"/>
                          <a:tab algn="l" pos="2133720"/>
                          <a:tab algn="l" pos="3200400"/>
                          <a:tab algn="l" pos="4267080"/>
                          <a:tab algn="l" pos="5334120"/>
                          <a:tab algn="l" pos="6400800"/>
                          <a:tab algn="l" pos="7467480"/>
                          <a:tab algn="l" pos="8534520"/>
                          <a:tab algn="l" pos="9601200"/>
                          <a:tab algn="l" pos="1066788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ndara"/>
                          <a:ea typeface="华文楷体"/>
                        </a:rPr>
                        <a:t>偏远无电网地区，电力负荷为交流设备，且供电无连续性要求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560" marR="106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8"/>
          <p:cNvSpPr/>
          <p:nvPr/>
        </p:nvSpPr>
        <p:spPr>
          <a:xfrm>
            <a:off x="2427120" y="239760"/>
            <a:ext cx="721044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、</a:t>
            </a:r>
            <a:r>
              <a:rPr b="0" lang="zh-CN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建筑一体化光伏系统的设计</a:t>
            </a: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1176480" y="5796000"/>
            <a:ext cx="1633320" cy="527040"/>
          </a:xfrm>
          <a:prstGeom prst="ellipse">
            <a:avLst/>
          </a:prstGeom>
          <a:gradFill rotWithShape="0">
            <a:gsLst>
              <a:gs pos="0">
                <a:srgbClr val="3333cc">
                  <a:alpha val="30196"/>
                </a:srgbClr>
              </a:gs>
              <a:gs pos="100000">
                <a:srgbClr val="18185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446200" y="5796000"/>
            <a:ext cx="1632240" cy="527040"/>
          </a:xfrm>
          <a:prstGeom prst="ellipse">
            <a:avLst/>
          </a:prstGeom>
          <a:gradFill rotWithShape="0">
            <a:gsLst>
              <a:gs pos="0">
                <a:srgbClr val="3333cc">
                  <a:alpha val="30196"/>
                </a:srgbClr>
              </a:gs>
              <a:gs pos="100000">
                <a:srgbClr val="18185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3705120" y="5796000"/>
            <a:ext cx="1630440" cy="527040"/>
          </a:xfrm>
          <a:prstGeom prst="ellipse">
            <a:avLst/>
          </a:prstGeom>
          <a:gradFill rotWithShape="0">
            <a:gsLst>
              <a:gs pos="0">
                <a:srgbClr val="3333cc">
                  <a:alpha val="30196"/>
                </a:srgbClr>
              </a:gs>
              <a:gs pos="100000">
                <a:srgbClr val="18185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984920" y="5796000"/>
            <a:ext cx="1631880" cy="527040"/>
          </a:xfrm>
          <a:prstGeom prst="ellipse">
            <a:avLst/>
          </a:prstGeom>
          <a:gradFill rotWithShape="0">
            <a:gsLst>
              <a:gs pos="0">
                <a:srgbClr val="3333cc">
                  <a:alpha val="30196"/>
                </a:srgbClr>
              </a:gs>
              <a:gs pos="100000">
                <a:srgbClr val="18185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6286680" y="5737320"/>
            <a:ext cx="1630080" cy="527040"/>
          </a:xfrm>
          <a:prstGeom prst="ellipse">
            <a:avLst/>
          </a:prstGeom>
          <a:gradFill rotWithShape="0">
            <a:gsLst>
              <a:gs pos="0">
                <a:srgbClr val="3333cc">
                  <a:alpha val="30196"/>
                </a:srgbClr>
              </a:gs>
              <a:gs pos="100000">
                <a:srgbClr val="18185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7578720" y="5705640"/>
            <a:ext cx="1631880" cy="525240"/>
          </a:xfrm>
          <a:prstGeom prst="ellipse">
            <a:avLst/>
          </a:prstGeom>
          <a:gradFill rotWithShape="0">
            <a:gsLst>
              <a:gs pos="0">
                <a:srgbClr val="3333cc">
                  <a:alpha val="30196"/>
                </a:srgbClr>
              </a:gs>
              <a:gs pos="100000">
                <a:srgbClr val="18185e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pic1"/>
          <p:cNvPicPr/>
          <p:nvPr/>
        </p:nvPicPr>
        <p:blipFill>
          <a:blip r:embed="rId1"/>
          <a:stretch/>
        </p:blipFill>
        <p:spPr>
          <a:xfrm>
            <a:off x="720720" y="1511280"/>
            <a:ext cx="88567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3"/>
          <p:cNvSpPr/>
          <p:nvPr/>
        </p:nvSpPr>
        <p:spPr>
          <a:xfrm>
            <a:off x="2512800" y="1181160"/>
            <a:ext cx="83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t">
            <a:spAutoFit/>
          </a:bodyPr>
          <a:p>
            <a:pPr marL="333360" indent="-333360" algn="ctr">
              <a:lnSpc>
                <a:spcPct val="10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336699"/>
                </a:solidFill>
                <a:latin typeface="微软雅黑"/>
                <a:ea typeface="微软雅黑"/>
              </a:rPr>
              <a:t>对光伏电池阵列的输入进行一级汇流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040360" y="2154240"/>
            <a:ext cx="481176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spAutoFit/>
          </a:bodyPr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光伏电池串开路报警，状态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采集直流断路器、防雷器等输出空接点状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驱动直流断路器的自动分合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提供温度、辐照、风速等类型传感器输入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可输出</a:t>
            </a:r>
            <a:r>
              <a:rPr b="0" lang="en-US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DC24V</a:t>
            </a: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电源给外部传感器供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就地数码管循环显示每通道的输入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99"/>
                </a:solidFill>
                <a:latin typeface="微软雅黑"/>
                <a:ea typeface="微软雅黑"/>
              </a:rPr>
              <a:t>具有自动关闭节能显示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643320" y="3911760"/>
            <a:ext cx="411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560" rIns="106560" tIns="53280" bIns="53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16" descr=""/>
          <p:cNvPicPr/>
          <p:nvPr/>
        </p:nvPicPr>
        <p:blipFill>
          <a:blip r:embed="rId1"/>
          <a:stretch/>
        </p:blipFill>
        <p:spPr>
          <a:xfrm>
            <a:off x="847800" y="2327400"/>
            <a:ext cx="3147840" cy="31669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96"/>
          <p:cNvSpPr/>
          <p:nvPr/>
        </p:nvSpPr>
        <p:spPr>
          <a:xfrm>
            <a:off x="2502000" y="239760"/>
            <a:ext cx="7119720" cy="73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46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3c78"/>
                </a:solidFill>
                <a:latin typeface="Arial"/>
                <a:ea typeface="微软雅黑"/>
              </a:rPr>
              <a:t>APV-M</a:t>
            </a:r>
            <a:r>
              <a:rPr b="0" lang="zh-CN" sz="2800" spc="-1" strike="noStrike">
                <a:solidFill>
                  <a:srgbClr val="003c78"/>
                </a:solidFill>
                <a:latin typeface="Arial"/>
                <a:ea typeface="微软雅黑"/>
              </a:rPr>
              <a:t>系列智能光伏汇流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5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7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75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3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aLiPing</cp:lastModifiedBy>
  <dcterms:modified xsi:type="dcterms:W3CDTF">2014-02-08T08:37:44Z</dcterms:modified>
  <cp:revision>1</cp:revision>
  <dc:subject/>
  <dc:title>PowerPoint 演示文稿</dc:title>
</cp:coreProperties>
</file>